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44.jpeg" ContentType="image/jpeg"/>
  <Override PartName="/ppt/media/image32.png" ContentType="image/png"/>
  <Override PartName="/ppt/media/image41.jpeg" ContentType="image/jpeg"/>
  <Override PartName="/ppt/media/image45.jpeg" ContentType="image/jpeg"/>
  <Override PartName="/ppt/media/image37.jpeg" ContentType="image/jpeg"/>
  <Override PartName="/ppt/media/image42.png" ContentType="image/png"/>
  <Override PartName="/ppt/media/image11.jpeg" ContentType="image/jpeg"/>
  <Override PartName="/ppt/media/image43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46.png" ContentType="image/png"/>
  <Override PartName="/ppt/media/image8.png" ContentType="image/png"/>
  <Override PartName="/ppt/media/image7.png" ContentType="image/png"/>
  <Override PartName="/ppt/media/image34.jpeg" ContentType="image/jpeg"/>
  <Override PartName="/ppt/media/image9.png" ContentType="image/png"/>
  <Override PartName="/ppt/media/image22.jpeg" ContentType="image/jpeg"/>
  <Override PartName="/ppt/media/image39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  <p:custShowLst>
    <p:custShow name="Complet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ITS" id="1">
      <p:sldLst>
        <p:sld r:id="rId5"/>
        <p:sld r:id="rId6"/>
        <p:sld r:id="rId7"/>
        <p:sld r:id="rId8"/>
        <p:sld r:id="rId9"/>
        <p:sld r:id="rId12"/>
        <p:sld r:id="rId13"/>
        <p:sld r:id="rId14"/>
        <p:sld r:id="rId15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25920" y="34560"/>
            <a:ext cx="29559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3863520" y="34560"/>
            <a:ext cx="29559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890280" y="734760"/>
            <a:ext cx="5016600" cy="376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3"/>
          </p:nvPr>
        </p:nvSpPr>
        <p:spPr>
          <a:xfrm>
            <a:off x="-25920" y="9435600"/>
            <a:ext cx="29559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4"/>
          </p:nvPr>
        </p:nvSpPr>
        <p:spPr>
          <a:xfrm>
            <a:off x="3863520" y="9435600"/>
            <a:ext cx="295596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fld id="{1330ECD9-D4AB-4CCD-97C3-8F9EDCC827A2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3.422 voisinage de canalisations d’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n’existe 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3.422 voisinage de canalisations d’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fait a partir de GSRP00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22 voisinage de canalisations électriques, téléphoniques et simila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fait a partir de GSRP00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RP0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41 protection mécanique - fourr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RP00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6 tubes en polyéthylè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êté du 2 Août 1977 modifié - article 7 - pose des condui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RP00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16 tubes en polyéthylè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êté du 2 Août 1977 modifié - article 7 - pose des condui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BA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BP001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RP00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PA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xxx0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xxx23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542 - protection mécanique fourr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f. 5.33.4  NFP 4520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is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SRP00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3.542 - protection mécanique fourr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f. 5.33.4  NFP 4520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is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SRP00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rme NF P 45-20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ticle 5.3.2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is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xxx002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TU 61.1 (DTU P 45-204): Installations de gaz - cahier des charges (03/1999) - Chapitre II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§ 3.1 Conditions d'emploi des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§ 3.4 Installation des tuyauteries enterré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rticle 5.3.2.1.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is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sin Power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PAD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PCD00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PPD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GPPD002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Installations de gaz - cahier des charges (03/1999) - Chapitre III § 1,1 Tubes et tuy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§ 3.4 Installation des tuyauteries enterré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GPBA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GPBP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GPLD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GPOD00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3.41 Emplacement des conduites enterré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GSRP00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3.442 Protection - caniv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 Power Point fait à partir de GSRP00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90640" y="73512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09720" y="473508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PENT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férences réglementair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U 61.1 (DTU P 45-204)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ations de gaz - cahier des charges (03/1999) - Chapitre III § 3.42 (1 &amp; 2) voisinage avec d’autres canalis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el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RP00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: niveau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33B3-D949-4F93-9AB8-C9DBC4AB2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4DB3-6F1F-4D44-9084-798D1AC0D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54F9-C58B-4D8C-BAF5-16987D377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B86E-C5F9-4D2B-BD4B-4DA8DD642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7B11-BEF5-4E03-9FCB-A143C8077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7084-4445-47BF-B953-646DBBA1E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AC60-DD61-4B94-B074-F1BA09ECA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FF86-BDE5-49D0-9714-FBF0DDC61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88B0-B880-4618-85CF-3ED54BC0A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7983-809B-4EC2-83C5-820775194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35E5-149B-439B-B18E-1F225124E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0CAB-F144-46D7-8F29-D7EBE5D46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slide1.xml"/><Relationship Id="rId5" Type="http://schemas.openxmlformats.org/officeDocument/2006/relationships/image" Target="../media/image3.png"/><Relationship Id="rId6" Type="http://schemas.openxmlformats.org/officeDocument/2006/relationships/hyperlink" Target="http://www.btp.afpa.fr/bde.test/BDE/RESSOURCES/LIVRETS/NOTICES/ntitssd0100000.pps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330120" y="6477120"/>
            <a:ext cx="8433000" cy="2880"/>
          </a:xfrm>
          <a:prstGeom prst="line">
            <a:avLst/>
          </a:prstGeom>
          <a:ln w="28440">
            <a:solidFill>
              <a:srgbClr val="fcd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72040" y="62485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apo </a:t>
            </a:r>
            <a:fld id="{A446F83C-A023-4DEA-9B6F-37DBC81A292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153280" y="304920"/>
            <a:ext cx="685800" cy="5936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137440" y="892080"/>
            <a:ext cx="609840" cy="260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58920" y="838080"/>
            <a:ext cx="3908160" cy="287280"/>
          </a:xfrm>
          <a:prstGeom prst="rect">
            <a:avLst/>
          </a:prstGeom>
          <a:solidFill>
            <a:srgbClr val="f6ff9f"/>
          </a:solidFill>
          <a:ln w="57240">
            <a:solidFill>
              <a:srgbClr val="fcd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920" y="358920"/>
            <a:ext cx="7642080" cy="360360"/>
          </a:xfrm>
          <a:prstGeom prst="rect">
            <a:avLst/>
          </a:prstGeom>
          <a:solidFill>
            <a:srgbClr val="f6ff9f"/>
          </a:solidFill>
          <a:ln w="57240">
            <a:solidFill>
              <a:srgbClr val="fcd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duites d’alimentation G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838080"/>
            <a:ext cx="3657600" cy="287280"/>
          </a:xfrm>
          <a:prstGeom prst="rect">
            <a:avLst/>
          </a:prstGeom>
          <a:solidFill>
            <a:srgbClr val="f6ff9f"/>
          </a:solidFill>
          <a:ln w="57240">
            <a:solidFill>
              <a:srgbClr val="fcd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81480" y="6400800"/>
            <a:ext cx="1003320" cy="266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95280" y="826920"/>
            <a:ext cx="275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e des condu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firstslide"/>
          </p:cNvPr>
          <p:cNvSpPr/>
          <p:nvPr/>
        </p:nvSpPr>
        <p:spPr>
          <a:xfrm>
            <a:off x="4375080" y="826920"/>
            <a:ext cx="3130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conduites enterr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43400" y="6400800"/>
            <a:ext cx="812880" cy="2667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3581280" y="6400800"/>
            <a:ext cx="736560" cy="2667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869240" y="6456240"/>
            <a:ext cx="1019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TITSSD01000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8600" y="647712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AZPART Version 2.5 - Direction de l’Ingénierie - D BTP Toulouse - 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btp.afpa.fr/bde.test/BDE/RESSOURCES/LIVRETS/NOTICES/ntitssd0100000.pps#70. Fourreau" TargetMode="External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btp.afpa.fr/bde.test/BDE/RESSOURCES/LIVRETS/NOTICES/ntitssd0100000.pps#70. Fourreau" TargetMode="External"/><Relationship Id="rId3" Type="http://schemas.openxmlformats.org/officeDocument/2006/relationships/hyperlink" Target="http://www.btp.afpa.fr/bde.test/BDE/RESSOURCES/LIVRETS/NOTICES/ntitssd0100000.pps#62. Espace annulaire" TargetMode="External"/><Relationship Id="rId4" Type="http://schemas.openxmlformats.org/officeDocument/2006/relationships/hyperlink" Target="http://www.btp.afpa.fr/bde.test/BDE/RESSOURCES/LIVRETS/NOTICES/ntitssd0100000.pps#99. Mat&#233;riaux inerte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btp.afpa.fr/bde.test/BDE/RESSOURCES/LIVRETS/NOTICES/ntitssd0100000.pps#113. Poly&#233;thyl&#232;ne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7.jpe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btp.afpa.fr/bde.test/BDE/RESSOURCES/LIVRETS/NOTICES/ntitssd0100000.pps#113. Poly&#233;thyl&#232;ne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www.btp.afpa.fr/bde.test/BDE/RESSOURCES/LIVRETS/NOTICES/NTITSSD0100142.PPS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www.btp.afpa.fr/bde.test/BDE/RESSOURCES/LIVRETS/NOTICES/ntitssd0100000.pps#95. M&#226;chefer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hyperlink" Target="http://www.btp.afpa.fr/bde.test/BDE/RESSOURCES/LIVRETS/NOTICES/ntitssd0100000.pps#79. G&#233;n&#233;ratric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0120" y="1860480"/>
            <a:ext cx="287280" cy="287280"/>
          </a:xfrm>
          <a:prstGeom prst="rect">
            <a:avLst/>
          </a:prstGeom>
          <a:gradFill rotWithShape="0">
            <a:gsLst>
              <a:gs pos="0">
                <a:srgbClr val="005641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844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aporama comp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0120" y="2436840"/>
            <a:ext cx="287280" cy="287280"/>
          </a:xfrm>
          <a:prstGeom prst="rect">
            <a:avLst/>
          </a:prstGeom>
          <a:gradFill rotWithShape="0">
            <a:gsLst>
              <a:gs pos="0">
                <a:srgbClr val="005641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421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aporama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773360"/>
            <a:ext cx="3541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349360"/>
            <a:ext cx="3537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21040" y="1873080"/>
            <a:ext cx="809640" cy="3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21040" y="2449440"/>
            <a:ext cx="809640" cy="3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5605-5378-4C96-A05B-AA0893B90FAD}" type="slidenum">
              <a:t>1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351240" y="3165480"/>
            <a:ext cx="2530440" cy="1832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rot="19401000">
            <a:off x="5877000" y="3673440"/>
            <a:ext cx="48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9401000">
            <a:off x="5201280" y="2963520"/>
            <a:ext cx="48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43280" y="2838600"/>
            <a:ext cx="609480" cy="1960200"/>
            <a:chOff x="3743280" y="2838600"/>
            <a:chExt cx="609480" cy="1960200"/>
          </a:xfrm>
        </p:grpSpPr>
        <p:sp>
          <p:nvSpPr>
            <p:cNvPr id="260" name=""/>
            <p:cNvSpPr/>
            <p:nvPr/>
          </p:nvSpPr>
          <p:spPr>
            <a:xfrm flipV="1">
              <a:off x="3743280" y="2904120"/>
              <a:ext cx="0" cy="14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352760" y="3196800"/>
              <a:ext cx="0" cy="160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54080" y="2971080"/>
              <a:ext cx="58212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758000">
              <a:off x="4035600" y="2860200"/>
              <a:ext cx="15768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662040"/>
                  <a:tab algn="l" pos="1324080"/>
                  <a:tab algn="l" pos="1986120"/>
                  <a:tab algn="l" pos="2647800"/>
                  <a:tab algn="l" pos="3309840"/>
                  <a:tab algn="l" pos="3971880"/>
                  <a:tab algn="l" pos="4633920"/>
                  <a:tab algn="l" pos="5295960"/>
                  <a:tab algn="l" pos="5958000"/>
                  <a:tab algn="l" pos="6620040"/>
                  <a:tab algn="l" pos="7281720"/>
                  <a:tab algn="l" pos="7943760"/>
                  <a:tab algn="l" pos="8605800"/>
                  <a:tab algn="l" pos="9267840"/>
                  <a:tab algn="l" pos="9929880"/>
                  <a:tab algn="l" pos="10591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956760" y="2701800"/>
            <a:ext cx="840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080" y="1876320"/>
            <a:ext cx="120600" cy="514440"/>
          </a:xfrm>
          <a:prstGeom prst="rect">
            <a:avLst/>
          </a:prstGeom>
          <a:gradFill rotWithShape="0">
            <a:gsLst>
              <a:gs pos="0">
                <a:srgbClr val="00624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8120" y="1803240"/>
            <a:ext cx="38638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istance entre les bords les plus proches des deux conduites doit être au moins égale à 20 c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suite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268" name="retour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3080" y="1244160"/>
            <a:ext cx="53337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 de la conduite gaz par rapport à une conduite d'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0D52-D8E9-41E0-94C8-B5D5BABAB660}" type="slidenum">
              <a:t>10</a:t>
            </a:fld>
          </a:p>
        </p:txBody>
      </p:sp>
    </p:spTree>
  </p:cSld>
  <p:transition spd="med">
    <p:wipe dir="r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43080" y="3378240"/>
            <a:ext cx="120600" cy="520560"/>
          </a:xfrm>
          <a:prstGeom prst="rect">
            <a:avLst/>
          </a:prstGeom>
          <a:gradFill rotWithShape="0">
            <a:gsLst>
              <a:gs pos="0">
                <a:srgbClr val="00654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419720"/>
            <a:ext cx="38988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2760" y="3270240"/>
            <a:ext cx="308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 croisement, la distance entre les deux canalisations doit être au moins égale à 5 c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suite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274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3080" y="1111680"/>
            <a:ext cx="52624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 de la conduite gaz par rapport à une conduite d'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GSRP005b" descr=""/>
          <p:cNvPicPr/>
          <p:nvPr/>
        </p:nvPicPr>
        <p:blipFill>
          <a:blip r:embed="rId3"/>
          <a:stretch/>
        </p:blipFill>
        <p:spPr>
          <a:xfrm>
            <a:off x="3587760" y="2246400"/>
            <a:ext cx="4336920" cy="264456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3557520" y="3797280"/>
            <a:ext cx="2641680" cy="1596960"/>
            <a:chOff x="3557520" y="3797280"/>
            <a:chExt cx="2641680" cy="1596960"/>
          </a:xfrm>
        </p:grpSpPr>
        <p:sp>
          <p:nvSpPr>
            <p:cNvPr id="278" name=""/>
            <p:cNvSpPr/>
            <p:nvPr/>
          </p:nvSpPr>
          <p:spPr>
            <a:xfrm flipH="1">
              <a:off x="4478400" y="4019760"/>
              <a:ext cx="69840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471920" y="3797280"/>
              <a:ext cx="172728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67320" y="4445280"/>
              <a:ext cx="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9515600">
              <a:off x="3555360" y="482796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cm 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rot="1750800">
            <a:off x="3864960" y="2156400"/>
            <a:ext cx="58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D8B8-9D3E-4DF5-ABB4-4E9DDEF1D8D1}" type="slidenum">
              <a:t>11</a:t>
            </a:fld>
          </a:p>
        </p:txBody>
      </p:sp>
    </p:spTree>
  </p:cSld>
  <p:transition spd="med">
    <p:wipe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Sans%20titre%202" descr=""/>
          <p:cNvPicPr/>
          <p:nvPr/>
        </p:nvPicPr>
        <p:blipFill>
          <a:blip r:embed="rId1"/>
          <a:srcRect l="0" t="0" r="13366" b="0"/>
          <a:stretch/>
        </p:blipFill>
        <p:spPr>
          <a:xfrm>
            <a:off x="5033880" y="4100400"/>
            <a:ext cx="2890800" cy="1936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3080" y="2254320"/>
            <a:ext cx="120600" cy="568080"/>
          </a:xfrm>
          <a:prstGeom prst="rect">
            <a:avLst/>
          </a:prstGeom>
          <a:gradFill rotWithShape="0">
            <a:gsLst>
              <a:gs pos="0">
                <a:srgbClr val="00654b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190600"/>
            <a:ext cx="42433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 distance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’au moins 20 c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oit séparer une conduite gaz de toute canalisation normalement parcoure par un courant électriqu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3543480"/>
            <a:ext cx="30862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onduite de gaz doit être mise dans un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fourreau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électriquement isol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457880"/>
            <a:ext cx="310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extrémités du fourreau doivent être éloignées des câbles d’au moins 20 c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4419720"/>
            <a:ext cx="38988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3086280"/>
            <a:ext cx="30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cela n’est p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080" y="3622680"/>
            <a:ext cx="120600" cy="501480"/>
          </a:xfrm>
          <a:prstGeom prst="rect">
            <a:avLst/>
          </a:prstGeom>
          <a:gradFill rotWithShape="0">
            <a:gsLst>
              <a:gs pos="0">
                <a:srgbClr val="00513c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181480" y="5612400"/>
            <a:ext cx="1565280" cy="516600"/>
            <a:chOff x="5181480" y="5612400"/>
            <a:chExt cx="1565280" cy="516600"/>
          </a:xfrm>
        </p:grpSpPr>
        <p:grpSp>
          <p:nvGrpSpPr>
            <p:cNvPr id="292" name=""/>
            <p:cNvGrpSpPr/>
            <p:nvPr/>
          </p:nvGrpSpPr>
          <p:grpSpPr>
            <a:xfrm>
              <a:off x="5184000" y="5612400"/>
              <a:ext cx="1547280" cy="307080"/>
              <a:chOff x="5184000" y="5612400"/>
              <a:chExt cx="1547280" cy="307080"/>
            </a:xfrm>
          </p:grpSpPr>
          <p:sp>
            <p:nvSpPr>
              <p:cNvPr id="293" name=""/>
              <p:cNvSpPr/>
              <p:nvPr/>
            </p:nvSpPr>
            <p:spPr>
              <a:xfrm>
                <a:off x="5476680" y="5612400"/>
                <a:ext cx="110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0 cm min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184000" y="5892480"/>
                <a:ext cx="15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 flipV="1">
              <a:off x="5181480" y="577656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746760" y="5776560"/>
              <a:ext cx="0" cy="35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3080" y="4524480"/>
            <a:ext cx="120600" cy="565200"/>
          </a:xfrm>
          <a:prstGeom prst="rect">
            <a:avLst/>
          </a:prstGeom>
          <a:gradFill rotWithShape="0">
            <a:gsLst>
              <a:gs pos="0">
                <a:srgbClr val="00513c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942520" y="2716200"/>
            <a:ext cx="680400" cy="1386000"/>
            <a:chOff x="5942520" y="2716200"/>
            <a:chExt cx="680400" cy="1386000"/>
          </a:xfrm>
        </p:grpSpPr>
        <p:sp>
          <p:nvSpPr>
            <p:cNvPr id="299" name=""/>
            <p:cNvSpPr/>
            <p:nvPr/>
          </p:nvSpPr>
          <p:spPr>
            <a:xfrm rot="16200000">
              <a:off x="5544000" y="3246480"/>
              <a:ext cx="110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cm 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213600" y="2722680"/>
              <a:ext cx="0" cy="137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046920" y="2716200"/>
              <a:ext cx="57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956920" y="4252680"/>
            <a:ext cx="522720" cy="1284120"/>
            <a:chOff x="5956920" y="4252680"/>
            <a:chExt cx="522720" cy="1284120"/>
          </a:xfrm>
        </p:grpSpPr>
        <p:sp>
          <p:nvSpPr>
            <p:cNvPr id="303" name=""/>
            <p:cNvSpPr/>
            <p:nvPr/>
          </p:nvSpPr>
          <p:spPr>
            <a:xfrm rot="16200000">
              <a:off x="5558400" y="4762800"/>
              <a:ext cx="110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cm 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218280" y="4252680"/>
              <a:ext cx="0" cy="12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994000" y="5532480"/>
              <a:ext cx="4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4920" y="316224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rcRect l="30358" t="0" r="0" b="0"/>
          <a:stretch/>
        </p:blipFill>
        <p:spPr>
          <a:xfrm>
            <a:off x="5489640" y="2265480"/>
            <a:ext cx="1650960" cy="3971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6481800" y="2266920"/>
            <a:ext cx="942840" cy="3505320"/>
          </a:xfrm>
          <a:prstGeom prst="rect">
            <a:avLst/>
          </a:prstGeom>
          <a:ln w="0">
            <a:noFill/>
          </a:ln>
        </p:spPr>
      </p:pic>
      <p:pic>
        <p:nvPicPr>
          <p:cNvPr id="309" name="suite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310" name="retour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1111680"/>
            <a:ext cx="76690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 de la conduite gaz par rapport à des canalisations parcourues normalement par un courant électr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Sans%20titre%202" descr=""/>
          <p:cNvPicPr/>
          <p:nvPr/>
        </p:nvPicPr>
        <p:blipFill>
          <a:blip r:embed="rId7"/>
          <a:srcRect l="0" t="16840" r="13358" b="0"/>
          <a:stretch/>
        </p:blipFill>
        <p:spPr>
          <a:xfrm>
            <a:off x="5033880" y="4421160"/>
            <a:ext cx="2890800" cy="1609920"/>
          </a:xfrm>
          <a:prstGeom prst="rect">
            <a:avLst/>
          </a:prstGeom>
          <a:ln w="0">
            <a:noFill/>
          </a:ln>
        </p:spPr>
      </p:pic>
      <p:grpSp>
        <p:nvGrpSpPr>
          <p:cNvPr id="313" name=""/>
          <p:cNvGrpSpPr/>
          <p:nvPr/>
        </p:nvGrpSpPr>
        <p:grpSpPr>
          <a:xfrm>
            <a:off x="5478480" y="1834200"/>
            <a:ext cx="1303200" cy="431280"/>
            <a:chOff x="5478480" y="1834200"/>
            <a:chExt cx="1303200" cy="431280"/>
          </a:xfrm>
        </p:grpSpPr>
        <p:sp>
          <p:nvSpPr>
            <p:cNvPr id="314" name=""/>
            <p:cNvSpPr/>
            <p:nvPr/>
          </p:nvSpPr>
          <p:spPr>
            <a:xfrm>
              <a:off x="6191280" y="1978200"/>
              <a:ext cx="5904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78480" y="1834200"/>
              <a:ext cx="88092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165120" y="3897360"/>
            <a:ext cx="3621600" cy="71280"/>
            <a:chOff x="3165120" y="3897360"/>
            <a:chExt cx="3621600" cy="71280"/>
          </a:xfrm>
        </p:grpSpPr>
        <p:sp>
          <p:nvSpPr>
            <p:cNvPr id="317" name=""/>
            <p:cNvSpPr/>
            <p:nvPr/>
          </p:nvSpPr>
          <p:spPr>
            <a:xfrm>
              <a:off x="6273720" y="3967200"/>
              <a:ext cx="51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3165120" y="3897360"/>
              <a:ext cx="296388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D1BE-011B-437B-AB90-065558545E86}" type="slidenum">
              <a:t>12</a:t>
            </a:fld>
          </a:p>
        </p:txBody>
      </p:sp>
    </p:spTree>
  </p:cSld>
  <p:transition spd="med">
    <p:wipe dir="r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GSRP021a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4191120" cy="3020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666880" y="22096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OIR  ENFO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7640" y="3914640"/>
            <a:ext cx="228600" cy="2286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400280" y="2793600"/>
            <a:ext cx="1676160" cy="1790280"/>
            <a:chOff x="4400280" y="2793600"/>
            <a:chExt cx="1676160" cy="1790280"/>
          </a:xfrm>
        </p:grpSpPr>
        <p:sp>
          <p:nvSpPr>
            <p:cNvPr id="323" name=""/>
            <p:cNvSpPr/>
            <p:nvPr/>
          </p:nvSpPr>
          <p:spPr>
            <a:xfrm flipV="1">
              <a:off x="4693680" y="2793600"/>
              <a:ext cx="0" cy="17902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060520" y="2793600"/>
              <a:ext cx="0" cy="129276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400280" y="2852640"/>
              <a:ext cx="28332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01960" y="2852640"/>
              <a:ext cx="35244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70240" y="2852640"/>
              <a:ext cx="100620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5880" y="26416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Arial"/>
              </a:rPr>
              <a:t>Projection verticale de la </a:t>
            </a:r>
            <a:r>
              <a:rPr b="1" lang="en-US" sz="1600" spc="-1" strike="noStrike">
                <a:solidFill>
                  <a:srgbClr val="339966"/>
                </a:solidFill>
                <a:latin typeface="Arial"/>
              </a:rPr>
              <a:t>conduite</a:t>
            </a:r>
            <a:r>
              <a:rPr b="1" lang="en-US" sz="1200" spc="-1" strike="noStrike">
                <a:solidFill>
                  <a:srgbClr val="339966"/>
                </a:solidFill>
                <a:latin typeface="Arial"/>
              </a:rPr>
              <a:t> de gaz supérieure à 5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19720" y="6400800"/>
            <a:ext cx="838440" cy="266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3000" y="1219320"/>
            <a:ext cx="4497480" cy="307080"/>
          </a:xfrm>
          <a:prstGeom prst="rect">
            <a:avLst/>
          </a:prstGeom>
          <a:solidFill>
            <a:srgbClr val="ffffdd"/>
          </a:solidFill>
          <a:ln w="0">
            <a:noFill/>
          </a:ln>
          <a:effectLst>
            <a:outerShdw dist="153753" dir="2700000" blurRad="0" rotWithShape="0">
              <a:srgbClr val="989884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age près d'un réservoir de produits pétro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suit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105680" y="6399360"/>
            <a:ext cx="838080" cy="26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056A-B5D4-4D57-98D5-040755C17B75}" type="slidenum">
              <a:t>13</a:t>
            </a:fld>
          </a:p>
        </p:txBody>
      </p:sp>
    </p:spTree>
  </p:cSld>
  <p:transition>
    <p:wipe dir="r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300"/>
                            </p:stCondLst>
                            <p:childTnLst>
                              <p:par>
                                <p:cTn id="7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392200" y="2063880"/>
            <a:ext cx="5519880" cy="40478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49200" y="2247840"/>
            <a:ext cx="114480" cy="520920"/>
          </a:xfrm>
          <a:prstGeom prst="rect">
            <a:avLst/>
          </a:prstGeom>
          <a:gradFill rotWithShape="0">
            <a:gsLst>
              <a:gs pos="0">
                <a:srgbClr val="00503c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" y="2171880"/>
            <a:ext cx="3105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est recommandé d’utiliser un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fourreau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lorsqu’un  tube acier ou cuivre traverse un mur enterré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2760" y="3048120"/>
            <a:ext cx="18032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L’espace annulair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pris entre la conduite et le fourreau doit être obligatoirement obturé par un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matériau inert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du côté intérieur du bât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018520" y="4699080"/>
            <a:ext cx="1524600" cy="610920"/>
            <a:chOff x="2018520" y="4699080"/>
            <a:chExt cx="1524600" cy="610920"/>
          </a:xfrm>
        </p:grpSpPr>
        <p:sp>
          <p:nvSpPr>
            <p:cNvPr id="337" name=""/>
            <p:cNvSpPr/>
            <p:nvPr/>
          </p:nvSpPr>
          <p:spPr>
            <a:xfrm>
              <a:off x="2018520" y="500292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urr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933640" y="4699080"/>
              <a:ext cx="6094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00320" y="5143320"/>
            <a:ext cx="2630160" cy="928440"/>
            <a:chOff x="1300320" y="5143320"/>
            <a:chExt cx="2630160" cy="928440"/>
          </a:xfrm>
        </p:grpSpPr>
        <p:sp>
          <p:nvSpPr>
            <p:cNvPr id="340" name=""/>
            <p:cNvSpPr/>
            <p:nvPr/>
          </p:nvSpPr>
          <p:spPr>
            <a:xfrm>
              <a:off x="1300320" y="5764680"/>
              <a:ext cx="155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ace annula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857320" y="5143320"/>
              <a:ext cx="1073160" cy="77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49200" y="3111480"/>
            <a:ext cx="114480" cy="1700280"/>
          </a:xfrm>
          <a:prstGeom prst="rect">
            <a:avLst/>
          </a:prstGeom>
          <a:gradFill rotWithShape="0">
            <a:gsLst>
              <a:gs pos="0">
                <a:srgbClr val="00503c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suite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18200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345" name="retour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281640" y="6400800"/>
            <a:ext cx="838440" cy="2667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77640" y="1218240"/>
            <a:ext cx="51447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nétration dans les immeubles à travers un mur enterr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F982-9820-42FC-AB94-E0158A422C03}" type="slidenum">
              <a:t>14</a:t>
            </a:fld>
          </a:p>
        </p:txBody>
      </p:sp>
    </p:spTree>
  </p:cSld>
  <p:transition spd="med">
    <p:wipe dir="r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GSRP008a" descr=""/>
          <p:cNvPicPr/>
          <p:nvPr/>
        </p:nvPicPr>
        <p:blipFill>
          <a:blip r:embed="rId1"/>
          <a:stretch/>
        </p:blipFill>
        <p:spPr>
          <a:xfrm>
            <a:off x="3409920" y="2189160"/>
            <a:ext cx="4133880" cy="3352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95360" y="1679400"/>
            <a:ext cx="255276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ttent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la canalisation d’alimentation est en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polyéthylèn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, elle doit être commuée en canalisation métallique à 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1 mètre environ av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e point de pénétration dans le bât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3080" y="1755720"/>
            <a:ext cx="120600" cy="1571760"/>
          </a:xfrm>
          <a:prstGeom prst="rect">
            <a:avLst/>
          </a:prstGeom>
          <a:gradFill rotWithShape="0">
            <a:gsLst>
              <a:gs pos="0">
                <a:srgbClr val="003c2d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19240" y="4089240"/>
            <a:ext cx="14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éthylè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84600" y="4470480"/>
            <a:ext cx="990720" cy="990360"/>
            <a:chOff x="4584600" y="4470480"/>
            <a:chExt cx="990720" cy="990360"/>
          </a:xfrm>
        </p:grpSpPr>
        <p:sp>
          <p:nvSpPr>
            <p:cNvPr id="352" name=""/>
            <p:cNvSpPr/>
            <p:nvPr/>
          </p:nvSpPr>
          <p:spPr>
            <a:xfrm>
              <a:off x="4584600" y="4470480"/>
              <a:ext cx="0" cy="9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84600" y="5384520"/>
              <a:ext cx="9907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60920" y="5003640"/>
              <a:ext cx="838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1 mè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585840" y="3415680"/>
            <a:ext cx="1462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tall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uivre ou aci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suit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10568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357" name="retour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2476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3080" y="1111680"/>
            <a:ext cx="49831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nétration dans les immeubles à travers un mur enterr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8C75-3E10-4228-B07F-5282C7B57C27}" type="slidenum">
              <a:t>15</a:t>
            </a:fld>
          </a:p>
        </p:txBody>
      </p:sp>
    </p:spTree>
  </p:cSld>
  <p:transition spd="med">
    <p:wipe dir="r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34000" y="5054760"/>
            <a:ext cx="2647800" cy="1339560"/>
          </a:xfrm>
          <a:prstGeom prst="rect">
            <a:avLst/>
          </a:prstGeom>
          <a:ln w="0">
            <a:noFill/>
          </a:ln>
        </p:spPr>
      </p:pic>
      <p:pic>
        <p:nvPicPr>
          <p:cNvPr id="361" name="GSRP008a" descr=""/>
          <p:cNvPicPr/>
          <p:nvPr/>
        </p:nvPicPr>
        <p:blipFill>
          <a:blip r:embed="rId2"/>
          <a:stretch/>
        </p:blipFill>
        <p:spPr>
          <a:xfrm>
            <a:off x="4540320" y="1773360"/>
            <a:ext cx="3108240" cy="2520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976840" y="3133080"/>
            <a:ext cx="1319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corro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7560" y="5282640"/>
            <a:ext cx="1050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suit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365" name="retour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457200" y="1906560"/>
            <a:ext cx="251784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438120" y="4156200"/>
            <a:ext cx="2517840" cy="185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7760" y="1111680"/>
            <a:ext cx="41716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 du raccord métal / polyéthylène (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229600" y="5076720"/>
          <a:ext cx="6858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29600" y="5076720"/>
                    <a:ext cx="685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4454640" y="4340160"/>
            <a:ext cx="35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raccord doit être obligatoirement monté avec une clé dynamométrique réglée selon l’indication fournie avec le racco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3195720" y="2322360"/>
            <a:ext cx="1087200" cy="76392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713040" y="1624680"/>
            <a:ext cx="1960200" cy="1986480"/>
            <a:chOff x="3713040" y="1624680"/>
            <a:chExt cx="1960200" cy="1986480"/>
          </a:xfrm>
        </p:grpSpPr>
        <p:sp>
          <p:nvSpPr>
            <p:cNvPr id="374" name=""/>
            <p:cNvSpPr/>
            <p:nvPr/>
          </p:nvSpPr>
          <p:spPr>
            <a:xfrm>
              <a:off x="5218920" y="3169080"/>
              <a:ext cx="454320" cy="44208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4263480" y="1723680"/>
              <a:ext cx="1040760" cy="14842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13040" y="1624680"/>
              <a:ext cx="141840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ATT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334040" y="4422600"/>
            <a:ext cx="120600" cy="574920"/>
          </a:xfrm>
          <a:prstGeom prst="rect">
            <a:avLst/>
          </a:prstGeom>
          <a:gradFill rotWithShape="0">
            <a:gsLst>
              <a:gs pos="0">
                <a:srgbClr val="003c2d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68760" y="601668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é dynamomé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0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53440" y="154944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MMANDATION FABR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B0C2-BBDC-4AB1-8FB9-320246236DEC}" type="slidenum">
              <a:t>16</a:t>
            </a:fld>
          </a:p>
        </p:txBody>
      </p:sp>
    </p:spTree>
  </p:cSld>
  <p:transition spd="med">
    <p:wipe dir="r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2080" y="1218240"/>
            <a:ext cx="3971880" cy="307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accord PE / Cu  ou  raccord PE / Ac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suite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12476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383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2760" y="2370240"/>
            <a:ext cx="320040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e en œuvre avec qual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cation B 52.7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882880" y="5192640"/>
            <a:ext cx="5137200" cy="957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2882880" y="3543480"/>
            <a:ext cx="5137200" cy="1315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4067280"/>
            <a:ext cx="2152800" cy="307080"/>
          </a:xfrm>
          <a:prstGeom prst="rect">
            <a:avLst/>
          </a:prstGeom>
          <a:solidFill>
            <a:srgbClr val="ffffdd"/>
          </a:solidFill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 / Cui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5473800"/>
            <a:ext cx="2152800" cy="307080"/>
          </a:xfrm>
          <a:prstGeom prst="rect">
            <a:avLst/>
          </a:prstGeom>
          <a:solidFill>
            <a:srgbClr val="ffffdd"/>
          </a:solidFill>
          <a:ln w="0">
            <a:noFill/>
          </a:ln>
          <a:effectLst>
            <a:outerShdw dist="17819" dir="2700000" blurRad="0" rotWithShape="0">
              <a:srgbClr val="9898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  / Ac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5"/>
          <a:stretch/>
        </p:blipFill>
        <p:spPr>
          <a:xfrm>
            <a:off x="4324320" y="1928880"/>
            <a:ext cx="2648160" cy="14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6E3F-7DBE-4C2E-970C-F32F9120FF63}" type="slidenum">
              <a:t>17</a:t>
            </a:fld>
          </a:p>
        </p:txBody>
      </p:sp>
    </p:spTree>
  </p:cSld>
  <p:transition spd="med">
    <p:wipe dir="r"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SRP009a" descr=""/>
          <p:cNvPicPr/>
          <p:nvPr/>
        </p:nvPicPr>
        <p:blipFill>
          <a:blip r:embed="rId1"/>
          <a:stretch/>
        </p:blipFill>
        <p:spPr>
          <a:xfrm>
            <a:off x="1511280" y="2008080"/>
            <a:ext cx="3043080" cy="431496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612880" y="5493960"/>
            <a:ext cx="571680" cy="357480"/>
            <a:chOff x="2612880" y="5493960"/>
            <a:chExt cx="571680" cy="357480"/>
          </a:xfrm>
        </p:grpSpPr>
        <p:sp>
          <p:nvSpPr>
            <p:cNvPr id="392" name=""/>
            <p:cNvSpPr/>
            <p:nvPr/>
          </p:nvSpPr>
          <p:spPr>
            <a:xfrm>
              <a:off x="2612880" y="5851440"/>
              <a:ext cx="5716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051000" y="5493960"/>
              <a:ext cx="0" cy="3524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056040" y="5640480"/>
            <a:ext cx="4868640" cy="307080"/>
            <a:chOff x="3056040" y="5640480"/>
            <a:chExt cx="4868640" cy="307080"/>
          </a:xfrm>
        </p:grpSpPr>
        <p:sp>
          <p:nvSpPr>
            <p:cNvPr id="395" name=""/>
            <p:cNvSpPr/>
            <p:nvPr/>
          </p:nvSpPr>
          <p:spPr>
            <a:xfrm flipH="1" flipV="1">
              <a:off x="3056040" y="5657400"/>
              <a:ext cx="15984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99080" y="564048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énétration dans le sol     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70120" y="4281840"/>
            <a:ext cx="4596840" cy="874440"/>
            <a:chOff x="2670120" y="4281840"/>
            <a:chExt cx="4596840" cy="874440"/>
          </a:xfrm>
        </p:grpSpPr>
        <p:sp>
          <p:nvSpPr>
            <p:cNvPr id="398" name=""/>
            <p:cNvSpPr/>
            <p:nvPr/>
          </p:nvSpPr>
          <p:spPr>
            <a:xfrm flipH="1">
              <a:off x="2670120" y="4502160"/>
              <a:ext cx="198432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22040" y="4281840"/>
              <a:ext cx="264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xation à plus de 20 cm du 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614320" y="3518280"/>
            <a:ext cx="5274000" cy="1176120"/>
            <a:chOff x="2614320" y="3518280"/>
            <a:chExt cx="5274000" cy="1176120"/>
          </a:xfrm>
        </p:grpSpPr>
        <p:sp>
          <p:nvSpPr>
            <p:cNvPr id="401" name=""/>
            <p:cNvSpPr/>
            <p:nvPr/>
          </p:nvSpPr>
          <p:spPr>
            <a:xfrm>
              <a:off x="4443840" y="3518280"/>
              <a:ext cx="344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4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positif de protection (méca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Arial"/>
                </a:rPr>
                <a:t>Obligato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614320" y="3865680"/>
              <a:ext cx="202716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4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624040" y="2300400"/>
            <a:ext cx="540000" cy="3186000"/>
            <a:chOff x="2624040" y="2300400"/>
            <a:chExt cx="540000" cy="3186000"/>
          </a:xfrm>
        </p:grpSpPr>
        <p:sp>
          <p:nvSpPr>
            <p:cNvPr id="404" name=""/>
            <p:cNvSpPr/>
            <p:nvPr/>
          </p:nvSpPr>
          <p:spPr>
            <a:xfrm flipV="1">
              <a:off x="3048120" y="2300400"/>
              <a:ext cx="0" cy="31860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24040" y="2300400"/>
              <a:ext cx="54000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2256120" y="3777120"/>
              <a:ext cx="13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2 mètres 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587680" y="1850040"/>
            <a:ext cx="4493520" cy="450360"/>
            <a:chOff x="2587680" y="1850040"/>
            <a:chExt cx="4493520" cy="450360"/>
          </a:xfrm>
        </p:grpSpPr>
        <p:sp>
          <p:nvSpPr>
            <p:cNvPr id="408" name=""/>
            <p:cNvSpPr/>
            <p:nvPr/>
          </p:nvSpPr>
          <p:spPr>
            <a:xfrm flipH="1">
              <a:off x="2587680" y="2128680"/>
              <a:ext cx="139680" cy="1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120" y="1850040"/>
              <a:ext cx="21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ace annulaire obtur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728800" y="2043000"/>
              <a:ext cx="192564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080" y="1218240"/>
            <a:ext cx="3971880" cy="3070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ites émergeant du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649920" y="5749920"/>
            <a:ext cx="129960" cy="120600"/>
            <a:chOff x="6649920" y="5749920"/>
            <a:chExt cx="129960" cy="120600"/>
          </a:xfrm>
        </p:grpSpPr>
        <p:sp>
          <p:nvSpPr>
            <p:cNvPr id="413" name=""/>
            <p:cNvSpPr/>
            <p:nvPr/>
          </p:nvSpPr>
          <p:spPr>
            <a:xfrm>
              <a:off x="6649920" y="5749920"/>
              <a:ext cx="12996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658200" y="5823000"/>
              <a:ext cx="1177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6658200" y="5791320"/>
              <a:ext cx="1177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suite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417" name="retour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2392200" y="2328840"/>
            <a:ext cx="209880" cy="54000"/>
            <a:chOff x="2392200" y="2328840"/>
            <a:chExt cx="209880" cy="54000"/>
          </a:xfrm>
        </p:grpSpPr>
        <p:sp>
          <p:nvSpPr>
            <p:cNvPr id="419" name=""/>
            <p:cNvSpPr/>
            <p:nvPr/>
          </p:nvSpPr>
          <p:spPr>
            <a:xfrm>
              <a:off x="2392200" y="2328840"/>
              <a:ext cx="5400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48080" y="2328840"/>
              <a:ext cx="5400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092D-A2CF-4BEA-9571-8EE1E46E0A70}" type="slidenum">
              <a:t>18</a:t>
            </a:fld>
          </a:p>
        </p:txBody>
      </p:sp>
    </p:spTree>
  </p:cSld>
  <p:transition spd="med">
    <p:wipe dir="r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927520" y="1730520"/>
            <a:ext cx="5059080" cy="44431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2440" y="1238040"/>
            <a:ext cx="3914640" cy="28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itions générales de 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fin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7115040" y="6400800"/>
            <a:ext cx="838440" cy="266760"/>
          </a:xfrm>
          <a:prstGeom prst="rect">
            <a:avLst/>
          </a:prstGeom>
          <a:ln w="0">
            <a:noFill/>
          </a:ln>
        </p:spPr>
      </p:pic>
      <p:pic>
        <p:nvPicPr>
          <p:cNvPr id="424" name="retour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49200" y="1752480"/>
            <a:ext cx="123840" cy="320760"/>
          </a:xfrm>
          <a:prstGeom prst="rect">
            <a:avLst/>
          </a:prstGeom>
          <a:gradFill rotWithShape="0">
            <a:gsLst>
              <a:gs pos="0">
                <a:srgbClr val="640028"/>
              </a:gs>
              <a:gs pos="100000">
                <a:srgbClr val="ff00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760" y="1676520"/>
            <a:ext cx="3790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uyauteries enterrées ne sont pas placées sous un bâti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9200" y="2362320"/>
            <a:ext cx="122400" cy="882360"/>
          </a:xfrm>
          <a:prstGeom prst="rect">
            <a:avLst/>
          </a:prstGeom>
          <a:gradFill rotWithShape="0">
            <a:gsLst>
              <a:gs pos="0">
                <a:srgbClr val="00503c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760" y="2286000"/>
            <a:ext cx="35812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fois, pour les installations intérieures desservant une habitation individuelle, un parcours sous cette dernière est toléré sous réserve des deux conditions suivantes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3438360"/>
            <a:ext cx="308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installation est réalisée en tube cuivre sans assemblag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351468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4029120"/>
            <a:ext cx="222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tes les précautions nécessaires sont prises pour éviter tout risque de cisaill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410544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3332-E9D1-432C-97C1-5E98DF2A5940}" type="slidenum">
              <a:t>19</a:t>
            </a:fld>
          </a:p>
        </p:txBody>
      </p:sp>
    </p:spTree>
  </p:cSld>
  <p:transition spd="med">
    <p:wipe dir="r"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657440"/>
            <a:ext cx="251460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tuyauterie doit être installée avec une couverture minimale de 0,50c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ans le cas où cette couverture ne peut être techniquement respectée, une protection suffisante contre les chocs dus aux outils de jardinage, pieux, etc… doit être mise en pl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1657440"/>
            <a:ext cx="2363760" cy="2225520"/>
          </a:xfrm>
          <a:custGeom>
            <a:avLst/>
            <a:gdLst/>
            <a:ahLst/>
            <a:rect l="l" t="t" r="r" b="b"/>
            <a:pathLst>
              <a:path w="1489" h="1402">
                <a:moveTo>
                  <a:pt x="48" y="0"/>
                </a:moveTo>
                <a:lnTo>
                  <a:pt x="1488" y="0"/>
                </a:lnTo>
                <a:lnTo>
                  <a:pt x="1440" y="288"/>
                </a:lnTo>
                <a:lnTo>
                  <a:pt x="1488" y="432"/>
                </a:lnTo>
                <a:lnTo>
                  <a:pt x="1401" y="615"/>
                </a:lnTo>
                <a:lnTo>
                  <a:pt x="1425" y="699"/>
                </a:lnTo>
                <a:lnTo>
                  <a:pt x="1440" y="816"/>
                </a:lnTo>
                <a:lnTo>
                  <a:pt x="1392" y="960"/>
                </a:lnTo>
                <a:lnTo>
                  <a:pt x="1296" y="1152"/>
                </a:lnTo>
                <a:lnTo>
                  <a:pt x="1248" y="1296"/>
                </a:lnTo>
                <a:lnTo>
                  <a:pt x="1095" y="1389"/>
                </a:lnTo>
                <a:lnTo>
                  <a:pt x="993" y="1374"/>
                </a:lnTo>
                <a:lnTo>
                  <a:pt x="816" y="1344"/>
                </a:lnTo>
                <a:lnTo>
                  <a:pt x="711" y="1401"/>
                </a:lnTo>
                <a:lnTo>
                  <a:pt x="606" y="1380"/>
                </a:lnTo>
                <a:lnTo>
                  <a:pt x="480" y="1296"/>
                </a:lnTo>
                <a:lnTo>
                  <a:pt x="288" y="1296"/>
                </a:lnTo>
                <a:lnTo>
                  <a:pt x="240" y="1248"/>
                </a:lnTo>
                <a:lnTo>
                  <a:pt x="144" y="1056"/>
                </a:lnTo>
                <a:lnTo>
                  <a:pt x="168" y="960"/>
                </a:lnTo>
                <a:lnTo>
                  <a:pt x="144" y="873"/>
                </a:lnTo>
                <a:lnTo>
                  <a:pt x="9" y="744"/>
                </a:lnTo>
                <a:lnTo>
                  <a:pt x="9" y="627"/>
                </a:lnTo>
                <a:lnTo>
                  <a:pt x="60" y="537"/>
                </a:lnTo>
                <a:lnTo>
                  <a:pt x="72" y="462"/>
                </a:lnTo>
                <a:lnTo>
                  <a:pt x="0" y="336"/>
                </a:lnTo>
                <a:lnTo>
                  <a:pt x="48" y="0"/>
                </a:lnTo>
                <a:lnTo>
                  <a:pt x="48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83040" y="1663560"/>
            <a:ext cx="1054080" cy="18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92760" y="1666800"/>
            <a:ext cx="1035000" cy="905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1800" y="1581120"/>
            <a:ext cx="2286000" cy="395280"/>
            <a:chOff x="2971800" y="1581120"/>
            <a:chExt cx="2286000" cy="395280"/>
          </a:xfrm>
        </p:grpSpPr>
        <p:sp>
          <p:nvSpPr>
            <p:cNvPr id="73" name=""/>
            <p:cNvSpPr/>
            <p:nvPr/>
          </p:nvSpPr>
          <p:spPr>
            <a:xfrm flipH="1">
              <a:off x="3809880" y="1812960"/>
              <a:ext cx="1447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71800" y="1581120"/>
              <a:ext cx="942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rre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mbl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04920" y="4276800"/>
            <a:ext cx="716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 matériaux autorisés sont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680" y="6058080"/>
            <a:ext cx="167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tube ac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7440" y="6058080"/>
            <a:ext cx="178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tube cui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9560" y="6058080"/>
            <a:ext cx="205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tube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polyéthylè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97440" y="2543040"/>
            <a:ext cx="1030320" cy="85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92760" y="2548080"/>
            <a:ext cx="10382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141720" y="2540160"/>
            <a:ext cx="2233440" cy="533160"/>
            <a:chOff x="3141720" y="2540160"/>
            <a:chExt cx="2233440" cy="533160"/>
          </a:xfrm>
        </p:grpSpPr>
        <p:sp>
          <p:nvSpPr>
            <p:cNvPr id="82" name=""/>
            <p:cNvSpPr/>
            <p:nvPr/>
          </p:nvSpPr>
          <p:spPr>
            <a:xfrm>
              <a:off x="3710160" y="2540160"/>
              <a:ext cx="166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0160" y="3073320"/>
              <a:ext cx="166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87920" y="25401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41720" y="2646360"/>
              <a:ext cx="711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96000" y="3403440"/>
            <a:ext cx="1042920" cy="74880"/>
          </a:xfrm>
          <a:custGeom>
            <a:avLst/>
            <a:gdLst/>
            <a:ahLst/>
            <a:rect l="l" t="t" r="r" b="b"/>
            <a:pathLst>
              <a:path w="684" h="82">
                <a:moveTo>
                  <a:pt x="9" y="81"/>
                </a:moveTo>
                <a:lnTo>
                  <a:pt x="0" y="0"/>
                </a:lnTo>
                <a:lnTo>
                  <a:pt x="684" y="0"/>
                </a:lnTo>
                <a:lnTo>
                  <a:pt x="672" y="82"/>
                </a:lnTo>
                <a:lnTo>
                  <a:pt x="9" y="8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69000" y="2241720"/>
            <a:ext cx="2012760" cy="633960"/>
            <a:chOff x="5769000" y="2241720"/>
            <a:chExt cx="2012760" cy="633960"/>
          </a:xfrm>
        </p:grpSpPr>
        <p:sp>
          <p:nvSpPr>
            <p:cNvPr id="88" name=""/>
            <p:cNvSpPr/>
            <p:nvPr/>
          </p:nvSpPr>
          <p:spPr>
            <a:xfrm>
              <a:off x="6705720" y="2241720"/>
              <a:ext cx="107604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ll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s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u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9000" y="2543400"/>
              <a:ext cx="9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971800" y="3181320"/>
            <a:ext cx="2057400" cy="634680"/>
            <a:chOff x="2971800" y="3181320"/>
            <a:chExt cx="2057400" cy="634680"/>
          </a:xfrm>
        </p:grpSpPr>
        <p:sp>
          <p:nvSpPr>
            <p:cNvPr id="91" name=""/>
            <p:cNvSpPr/>
            <p:nvPr/>
          </p:nvSpPr>
          <p:spPr>
            <a:xfrm flipH="1">
              <a:off x="3695760" y="3238200"/>
              <a:ext cx="13334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71800" y="3181320"/>
              <a:ext cx="9144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ter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épierr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280120" y="3095640"/>
            <a:ext cx="291960" cy="291960"/>
            <a:chOff x="5280120" y="3095640"/>
            <a:chExt cx="291960" cy="291960"/>
          </a:xfrm>
        </p:grpSpPr>
        <p:sp>
          <p:nvSpPr>
            <p:cNvPr id="95" name=""/>
            <p:cNvSpPr/>
            <p:nvPr/>
          </p:nvSpPr>
          <p:spPr>
            <a:xfrm>
              <a:off x="5280120" y="3095640"/>
              <a:ext cx="291960" cy="291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27640" y="3141360"/>
              <a:ext cx="198360" cy="1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43080" y="1735200"/>
            <a:ext cx="114120" cy="20779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GPAD001a" descr=""/>
          <p:cNvPicPr/>
          <p:nvPr/>
        </p:nvPicPr>
        <p:blipFill>
          <a:blip r:embed="rId7"/>
          <a:stretch/>
        </p:blipFill>
        <p:spPr>
          <a:xfrm>
            <a:off x="573120" y="4602240"/>
            <a:ext cx="1438200" cy="143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GPCD001d" descr=""/>
          <p:cNvPicPr/>
          <p:nvPr/>
        </p:nvPicPr>
        <p:blipFill>
          <a:blip r:embed="rId8"/>
          <a:stretch/>
        </p:blipFill>
        <p:spPr>
          <a:xfrm>
            <a:off x="2573280" y="4603680"/>
            <a:ext cx="1444680" cy="1438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GPPD001a" descr=""/>
          <p:cNvPicPr/>
          <p:nvPr/>
        </p:nvPicPr>
        <p:blipFill>
          <a:blip r:embed="rId9"/>
          <a:stretch/>
        </p:blipFill>
        <p:spPr>
          <a:xfrm>
            <a:off x="4581360" y="4606920"/>
            <a:ext cx="1438560" cy="1432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suite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143840" y="6399360"/>
            <a:ext cx="838080" cy="266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1111680"/>
            <a:ext cx="25891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ondeur d'enfouis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1720" y="1657440"/>
            <a:ext cx="3152160" cy="1425600"/>
            <a:chOff x="5481720" y="1657440"/>
            <a:chExt cx="3152160" cy="1425600"/>
          </a:xfrm>
        </p:grpSpPr>
        <p:sp>
          <p:nvSpPr>
            <p:cNvPr id="104" name=""/>
            <p:cNvSpPr/>
            <p:nvPr/>
          </p:nvSpPr>
          <p:spPr>
            <a:xfrm>
              <a:off x="6741000" y="1657440"/>
              <a:ext cx="10224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80960" y="1657440"/>
              <a:ext cx="0" cy="14180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94280" y="228240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50 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1720" y="3083040"/>
              <a:ext cx="225576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419880" y="6058080"/>
            <a:ext cx="178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tube IN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6583320" y="4627440"/>
            <a:ext cx="1438200" cy="143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8480" y="4062240"/>
            <a:ext cx="72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a : une tuyauterie de cuivre nu doit être posée exclusivement sur un lit de s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640" y="3805200"/>
            <a:ext cx="464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L’emploi de sable de mer ou de mâchefer est inter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9B66-5A03-4189-B4B2-CCAEEB9D2A52}" type="slidenum">
              <a:t>2</a:t>
            </a:fld>
          </a:p>
        </p:txBody>
      </p:sp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49200" y="4254480"/>
            <a:ext cx="114480" cy="825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680" y="4206960"/>
            <a:ext cx="3867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tubes en ac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ivent être protégé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érieurement par un revêtement (le revêtement supprimé est reconstitué)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13720" y="2822040"/>
            <a:ext cx="1319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corro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14440" y="4761720"/>
            <a:ext cx="1050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uite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13412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117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43480" y="6400800"/>
            <a:ext cx="838440" cy="266760"/>
          </a:xfrm>
          <a:prstGeom prst="rect">
            <a:avLst/>
          </a:prstGeom>
          <a:ln w="0">
            <a:noFill/>
          </a:ln>
        </p:spPr>
      </p:pic>
      <p:pic>
        <p:nvPicPr>
          <p:cNvPr id="118" name="GPBA001a" descr=""/>
          <p:cNvPicPr/>
          <p:nvPr/>
        </p:nvPicPr>
        <p:blipFill>
          <a:blip r:embed="rId3"/>
          <a:stretch/>
        </p:blipFill>
        <p:spPr>
          <a:xfrm>
            <a:off x="4324320" y="1523880"/>
            <a:ext cx="2517840" cy="201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9" name="GPBP001a" descr=""/>
          <p:cNvPicPr/>
          <p:nvPr/>
        </p:nvPicPr>
        <p:blipFill>
          <a:blip r:embed="rId4"/>
          <a:stretch/>
        </p:blipFill>
        <p:spPr>
          <a:xfrm>
            <a:off x="4324320" y="3638520"/>
            <a:ext cx="2517840" cy="1859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128600"/>
            <a:ext cx="23968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ctions des condu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219400"/>
            <a:ext cx="38606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revêtement externe en polyéthylène doit être conforme à la norme NF A 49-70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3080" y="2295360"/>
            <a:ext cx="114120" cy="341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1AA9-4E6A-451B-B611-FDF9D98CB9EE}" type="slidenum">
              <a:t>3</a:t>
            </a:fld>
          </a:p>
        </p:txBody>
      </p:sp>
    </p:spTree>
  </p:cSld>
  <p:transition spd="med"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PLD001a" descr=""/>
          <p:cNvPicPr/>
          <p:nvPr/>
        </p:nvPicPr>
        <p:blipFill>
          <a:blip r:embed="rId1"/>
          <a:stretch/>
        </p:blipFill>
        <p:spPr>
          <a:xfrm>
            <a:off x="1533600" y="2655720"/>
            <a:ext cx="2131920" cy="213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5" name="GPOD001a" descr=""/>
          <p:cNvPicPr/>
          <p:nvPr/>
        </p:nvPicPr>
        <p:blipFill>
          <a:blip r:embed="rId2"/>
          <a:stretch/>
        </p:blipFill>
        <p:spPr>
          <a:xfrm>
            <a:off x="4651200" y="2655720"/>
            <a:ext cx="2157480" cy="215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6" name=""/>
          <p:cNvSpPr/>
          <p:nvPr/>
        </p:nvSpPr>
        <p:spPr>
          <a:xfrm>
            <a:off x="457200" y="165564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nt interdit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15880" y="4857840"/>
            <a:ext cx="24386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tubes en alumin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éthode abandonné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8080" y="2674800"/>
            <a:ext cx="2514600" cy="2286000"/>
            <a:chOff x="1378080" y="2674800"/>
            <a:chExt cx="2514600" cy="2286000"/>
          </a:xfrm>
        </p:grpSpPr>
        <p:sp>
          <p:nvSpPr>
            <p:cNvPr id="129" name=""/>
            <p:cNvSpPr/>
            <p:nvPr/>
          </p:nvSpPr>
          <p:spPr>
            <a:xfrm>
              <a:off x="1378080" y="2674800"/>
              <a:ext cx="2514600" cy="2286000"/>
            </a:xfrm>
            <a:prstGeom prst="line">
              <a:avLst/>
            </a:prstGeom>
            <a:ln w="101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415880" y="2674800"/>
              <a:ext cx="2438280" cy="220968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540320" y="4857840"/>
            <a:ext cx="243828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 tuyaux en plo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n installation neuve ou en partie neuve d ’installation complétée ou modifié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2160" y="2647800"/>
            <a:ext cx="2514600" cy="2286000"/>
            <a:chOff x="4502160" y="2647800"/>
            <a:chExt cx="2514600" cy="2286000"/>
          </a:xfrm>
        </p:grpSpPr>
        <p:sp>
          <p:nvSpPr>
            <p:cNvPr id="133" name=""/>
            <p:cNvSpPr/>
            <p:nvPr/>
          </p:nvSpPr>
          <p:spPr>
            <a:xfrm>
              <a:off x="4502160" y="2647800"/>
              <a:ext cx="2514600" cy="2286000"/>
            </a:xfrm>
            <a:prstGeom prst="line">
              <a:avLst/>
            </a:prstGeom>
            <a:ln w="101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539960" y="2647800"/>
              <a:ext cx="2438640" cy="220968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43080" y="1731960"/>
            <a:ext cx="114120" cy="200160"/>
          </a:xfrm>
          <a:prstGeom prst="rect">
            <a:avLst/>
          </a:prstGeom>
          <a:gradFill rotWithShape="0">
            <a:gsLst>
              <a:gs pos="0">
                <a:srgbClr val="5b0024"/>
              </a:gs>
              <a:gs pos="100000">
                <a:srgbClr val="ff00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suit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8660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137" name="retour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21504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1128600"/>
            <a:ext cx="175860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ériaux interd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8204040" y="1523880"/>
            <a:ext cx="711360" cy="71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E29B-323F-4C21-AB3A-7C1E45A1923A}" type="slidenum">
              <a:t>4</a:t>
            </a:fld>
          </a:p>
        </p:txBody>
      </p:sp>
    </p:spTree>
  </p:cSld>
  <p:transition spd="med"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080" y="1238040"/>
            <a:ext cx="3924000" cy="28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olement élect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3680" y="1790640"/>
            <a:ext cx="3781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squ’une tuyauterie enterrée comporte un tronçon en acier raccordé à une canalisation en cuivre ou en fonte ou placé sous protection cathodique, la jonction de ce tronçon avec les autres tronçons s’effectue par raccord isolan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080" y="1866960"/>
            <a:ext cx="114120" cy="1116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uite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12476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144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43480" y="6400800"/>
            <a:ext cx="838440" cy="2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324320" y="4119480"/>
            <a:ext cx="3676680" cy="11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AD7E-DEEB-4496-A184-90F6C870F81B}" type="slidenum">
              <a:t>5</a:t>
            </a:fld>
          </a:p>
        </p:txBody>
      </p:sp>
    </p:spTree>
  </p:cSld>
  <p:transition spd="med"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720" y="1266840"/>
            <a:ext cx="3933720" cy="2570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suite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182000" y="6399360"/>
            <a:ext cx="838080" cy="266400"/>
          </a:xfrm>
          <a:prstGeom prst="rect">
            <a:avLst/>
          </a:prstGeom>
          <a:ln w="0">
            <a:noFill/>
          </a:ln>
        </p:spPr>
      </p:pic>
      <p:pic>
        <p:nvPicPr>
          <p:cNvPr id="148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81640" y="6400800"/>
            <a:ext cx="83844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3680" y="1752480"/>
            <a:ext cx="38606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uyauteries enterrées doivent être signalées par un dispositif avertisseur, placé à environ 0,20m au dessus de la tuyaute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3080" y="1828800"/>
            <a:ext cx="120600" cy="5065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3680" y="2486160"/>
            <a:ext cx="3860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 dispositif n’est pas exigé dans le cas de tuyauterie posé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3080" y="2529000"/>
            <a:ext cx="120600" cy="339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360" y="2876400"/>
            <a:ext cx="470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ns ouverture de fouille (fonçage, forage, tubage etc…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080" y="295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360" y="3156120"/>
            <a:ext cx="64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c un couverture inférieure à 0,20m et comportant une protection adapt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3241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3666960"/>
            <a:ext cx="333684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s ces deux cas, la tuyauterie doit faire l’objet d’un repérage grâce à deux repères matérialisant les extrémités (coffret, abri de compteur et plaque avec le mot « GAZ » par exempl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080" y="3753000"/>
            <a:ext cx="120600" cy="882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3680" y="4838760"/>
            <a:ext cx="32605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s la mesure où son parcours n’est ni rectiligne, ni évident, celui-ci doit être reporté sur un plan de situ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80" y="4924440"/>
            <a:ext cx="120600" cy="4968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3680" y="5619600"/>
            <a:ext cx="32032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exemplaire de ce plan sera remis au propriétaire ou à son représent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3080" y="5691240"/>
            <a:ext cx="120600" cy="3189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324320" y="1523880"/>
            <a:ext cx="3676680" cy="1389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855960" y="3710160"/>
            <a:ext cx="4145040" cy="25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8455-77DA-4BAD-BAE0-36D87AFFF389}" type="slidenum">
              <a:t>6</a:t>
            </a:fld>
          </a:p>
        </p:txBody>
      </p:sp>
    </p:spTree>
  </p:cSld>
  <p:transition spd="med"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SRP002a" descr=""/>
          <p:cNvPicPr/>
          <p:nvPr/>
        </p:nvPicPr>
        <p:blipFill>
          <a:blip r:embed="rId1"/>
          <a:stretch/>
        </p:blipFill>
        <p:spPr>
          <a:xfrm>
            <a:off x="2917800" y="2171880"/>
            <a:ext cx="5006880" cy="290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1960" y="2131920"/>
            <a:ext cx="246384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acement autorisé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02360" y="3573360"/>
            <a:ext cx="139680" cy="139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267600" y="3483000"/>
            <a:ext cx="1962000" cy="275040"/>
            <a:chOff x="6267600" y="3483000"/>
            <a:chExt cx="1962000" cy="275040"/>
          </a:xfrm>
        </p:grpSpPr>
        <p:sp>
          <p:nvSpPr>
            <p:cNvPr id="169" name=""/>
            <p:cNvSpPr/>
            <p:nvPr/>
          </p:nvSpPr>
          <p:spPr>
            <a:xfrm>
              <a:off x="6705720" y="3483000"/>
              <a:ext cx="152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yauterie g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67600" y="364320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98440" y="3611520"/>
            <a:ext cx="246384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acement à évi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5480" y="3751200"/>
            <a:ext cx="139680" cy="1396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9800" y="3909600"/>
            <a:ext cx="1072800" cy="716760"/>
            <a:chOff x="3349800" y="3909600"/>
            <a:chExt cx="1072800" cy="716760"/>
          </a:xfrm>
        </p:grpSpPr>
        <p:sp>
          <p:nvSpPr>
            <p:cNvPr id="174" name=""/>
            <p:cNvSpPr/>
            <p:nvPr/>
          </p:nvSpPr>
          <p:spPr>
            <a:xfrm>
              <a:off x="3349800" y="4168800"/>
              <a:ext cx="1072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yauterie g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3555720" y="3909600"/>
              <a:ext cx="1458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17520" y="5332320"/>
            <a:ext cx="2463840" cy="30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acement interdi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97520" y="3960720"/>
            <a:ext cx="203040" cy="2034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52520" y="3897360"/>
            <a:ext cx="381600" cy="380880"/>
            <a:chOff x="4952520" y="3897360"/>
            <a:chExt cx="381600" cy="380880"/>
          </a:xfrm>
        </p:grpSpPr>
        <p:sp>
          <p:nvSpPr>
            <p:cNvPr id="179" name=""/>
            <p:cNvSpPr/>
            <p:nvPr/>
          </p:nvSpPr>
          <p:spPr>
            <a:xfrm>
              <a:off x="4952880" y="3897360"/>
              <a:ext cx="38124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952520" y="3897360"/>
              <a:ext cx="3049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1" name="retour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pic>
        <p:nvPicPr>
          <p:cNvPr id="182" name="suite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2040" y="1128600"/>
            <a:ext cx="374976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acements autorisé, à éviter et inter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EC5C-381E-421D-95F6-DCB8AB035D8C}" type="slidenum">
              <a:t>7</a:t>
            </a:fld>
          </a:p>
        </p:txBody>
      </p:sp>
    </p:spTree>
  </p:cSld>
  <p:transition spd="med"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97120" y="3452760"/>
            <a:ext cx="4292640" cy="2070000"/>
          </a:xfrm>
          <a:custGeom>
            <a:avLst/>
            <a:gdLst/>
            <a:ahLst/>
            <a:rect l="l" t="t" r="r" b="b"/>
            <a:pathLst>
              <a:path w="2705" h="1304">
                <a:moveTo>
                  <a:pt x="0" y="0"/>
                </a:moveTo>
                <a:lnTo>
                  <a:pt x="67" y="539"/>
                </a:lnTo>
                <a:lnTo>
                  <a:pt x="336" y="808"/>
                </a:lnTo>
                <a:lnTo>
                  <a:pt x="336" y="982"/>
                </a:lnTo>
                <a:lnTo>
                  <a:pt x="421" y="1055"/>
                </a:lnTo>
                <a:lnTo>
                  <a:pt x="600" y="1123"/>
                </a:lnTo>
                <a:lnTo>
                  <a:pt x="982" y="1218"/>
                </a:lnTo>
                <a:lnTo>
                  <a:pt x="1302" y="1280"/>
                </a:lnTo>
                <a:lnTo>
                  <a:pt x="1510" y="1303"/>
                </a:lnTo>
                <a:lnTo>
                  <a:pt x="1656" y="1246"/>
                </a:lnTo>
                <a:lnTo>
                  <a:pt x="1802" y="1218"/>
                </a:lnTo>
                <a:lnTo>
                  <a:pt x="1954" y="1213"/>
                </a:lnTo>
                <a:lnTo>
                  <a:pt x="2083" y="1235"/>
                </a:lnTo>
                <a:lnTo>
                  <a:pt x="2218" y="1258"/>
                </a:lnTo>
                <a:lnTo>
                  <a:pt x="2324" y="1201"/>
                </a:lnTo>
                <a:lnTo>
                  <a:pt x="2470" y="1022"/>
                </a:lnTo>
                <a:lnTo>
                  <a:pt x="2521" y="887"/>
                </a:lnTo>
                <a:lnTo>
                  <a:pt x="2588" y="786"/>
                </a:lnTo>
                <a:lnTo>
                  <a:pt x="2653" y="724"/>
                </a:lnTo>
                <a:lnTo>
                  <a:pt x="2695" y="556"/>
                </a:lnTo>
                <a:lnTo>
                  <a:pt x="2704" y="446"/>
                </a:lnTo>
                <a:lnTo>
                  <a:pt x="2695" y="134"/>
                </a:lnTo>
                <a:lnTo>
                  <a:pt x="2628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94360" y="3452760"/>
            <a:ext cx="1604880" cy="1392120"/>
          </a:xfrm>
          <a:custGeom>
            <a:avLst/>
            <a:gdLst/>
            <a:ahLst/>
            <a:rect l="l" t="t" r="r" b="b"/>
            <a:pathLst>
              <a:path w="1011" h="877">
                <a:moveTo>
                  <a:pt x="0" y="0"/>
                </a:moveTo>
                <a:lnTo>
                  <a:pt x="269" y="876"/>
                </a:lnTo>
                <a:lnTo>
                  <a:pt x="740" y="876"/>
                </a:lnTo>
                <a:lnTo>
                  <a:pt x="786" y="876"/>
                </a:lnTo>
                <a:lnTo>
                  <a:pt x="10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4097160"/>
            <a:ext cx="1238400" cy="743040"/>
          </a:xfrm>
          <a:custGeom>
            <a:avLst/>
            <a:gdLst/>
            <a:ahLst/>
            <a:rect l="l" t="t" r="r" b="b"/>
            <a:pathLst>
              <a:path w="780" h="468">
                <a:moveTo>
                  <a:pt x="155" y="368"/>
                </a:moveTo>
                <a:lnTo>
                  <a:pt x="153" y="158"/>
                </a:lnTo>
                <a:lnTo>
                  <a:pt x="652" y="158"/>
                </a:lnTo>
                <a:lnTo>
                  <a:pt x="652" y="407"/>
                </a:lnTo>
                <a:lnTo>
                  <a:pt x="153" y="407"/>
                </a:lnTo>
                <a:lnTo>
                  <a:pt x="153" y="366"/>
                </a:lnTo>
                <a:lnTo>
                  <a:pt x="119" y="386"/>
                </a:lnTo>
                <a:lnTo>
                  <a:pt x="147" y="468"/>
                </a:lnTo>
                <a:lnTo>
                  <a:pt x="660" y="468"/>
                </a:lnTo>
                <a:lnTo>
                  <a:pt x="780" y="0"/>
                </a:lnTo>
                <a:lnTo>
                  <a:pt x="0" y="0"/>
                </a:lnTo>
                <a:lnTo>
                  <a:pt x="98" y="323"/>
                </a:lnTo>
                <a:lnTo>
                  <a:pt x="110" y="37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84360" y="4143240"/>
            <a:ext cx="3984120" cy="241560"/>
            <a:chOff x="1584360" y="4143240"/>
            <a:chExt cx="3984120" cy="241560"/>
          </a:xfrm>
        </p:grpSpPr>
        <p:sp>
          <p:nvSpPr>
            <p:cNvPr id="188" name=""/>
            <p:cNvSpPr/>
            <p:nvPr/>
          </p:nvSpPr>
          <p:spPr>
            <a:xfrm>
              <a:off x="1584360" y="4143240"/>
              <a:ext cx="10224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472840" y="4243320"/>
              <a:ext cx="309564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388200" y="3897360"/>
            <a:ext cx="749160" cy="1248840"/>
            <a:chOff x="6388200" y="3897360"/>
            <a:chExt cx="749160" cy="1248840"/>
          </a:xfrm>
        </p:grpSpPr>
        <p:sp>
          <p:nvSpPr>
            <p:cNvPr id="191" name=""/>
            <p:cNvSpPr/>
            <p:nvPr/>
          </p:nvSpPr>
          <p:spPr>
            <a:xfrm>
              <a:off x="6562440" y="4101840"/>
              <a:ext cx="57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8200" y="43448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4960" y="3897360"/>
              <a:ext cx="28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18200" y="4108320"/>
              <a:ext cx="0" cy="23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8200" y="436212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6494040" y="4617720"/>
              <a:ext cx="6742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 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57200" y="2495520"/>
            <a:ext cx="1917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sable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ne doit p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être du sable de mer ou du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mâchefer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92560" y="3427560"/>
            <a:ext cx="1611360" cy="671400"/>
          </a:xfrm>
          <a:custGeom>
            <a:avLst/>
            <a:gdLst/>
            <a:ahLst/>
            <a:rect l="l" t="t" r="r" b="b"/>
            <a:pathLst>
              <a:path w="1016" h="423">
                <a:moveTo>
                  <a:pt x="127" y="422"/>
                </a:moveTo>
                <a:lnTo>
                  <a:pt x="0" y="14"/>
                </a:lnTo>
                <a:lnTo>
                  <a:pt x="227" y="5"/>
                </a:lnTo>
                <a:lnTo>
                  <a:pt x="523" y="0"/>
                </a:lnTo>
                <a:lnTo>
                  <a:pt x="795" y="5"/>
                </a:lnTo>
                <a:lnTo>
                  <a:pt x="1015" y="16"/>
                </a:lnTo>
                <a:lnTo>
                  <a:pt x="905" y="422"/>
                </a:lnTo>
                <a:lnTo>
                  <a:pt x="127" y="42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511280" y="3370320"/>
            <a:ext cx="3911040" cy="475560"/>
            <a:chOff x="1511280" y="3370320"/>
            <a:chExt cx="3911040" cy="475560"/>
          </a:xfrm>
        </p:grpSpPr>
        <p:sp>
          <p:nvSpPr>
            <p:cNvPr id="200" name=""/>
            <p:cNvSpPr/>
            <p:nvPr/>
          </p:nvSpPr>
          <p:spPr>
            <a:xfrm>
              <a:off x="1511280" y="3370320"/>
              <a:ext cx="16045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rre tout ven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62840" y="3538440"/>
              <a:ext cx="285948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41840" y="4352760"/>
            <a:ext cx="782640" cy="392040"/>
            <a:chOff x="5541840" y="4352760"/>
            <a:chExt cx="782640" cy="392040"/>
          </a:xfrm>
        </p:grpSpPr>
        <p:sp>
          <p:nvSpPr>
            <p:cNvPr id="203" name=""/>
            <p:cNvSpPr/>
            <p:nvPr/>
          </p:nvSpPr>
          <p:spPr>
            <a:xfrm>
              <a:off x="5541840" y="4352760"/>
              <a:ext cx="782640" cy="392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2440" y="4430520"/>
              <a:ext cx="566640" cy="223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54320" y="4452480"/>
              <a:ext cx="173160" cy="17964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305320" y="4073400"/>
            <a:ext cx="121932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600440" y="2452680"/>
            <a:ext cx="1574640" cy="1599840"/>
            <a:chOff x="4600440" y="2452680"/>
            <a:chExt cx="1574640" cy="1599840"/>
          </a:xfrm>
        </p:grpSpPr>
        <p:sp>
          <p:nvSpPr>
            <p:cNvPr id="208" name=""/>
            <p:cNvSpPr/>
            <p:nvPr/>
          </p:nvSpPr>
          <p:spPr>
            <a:xfrm>
              <a:off x="4600440" y="2452680"/>
              <a:ext cx="15746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illage (jau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vertiss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486040" y="3062160"/>
              <a:ext cx="59040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43080" y="2560680"/>
            <a:ext cx="120600" cy="539640"/>
          </a:xfrm>
          <a:prstGeom prst="rect">
            <a:avLst/>
          </a:prstGeom>
          <a:gradFill rotWithShape="0">
            <a:gsLst>
              <a:gs pos="0">
                <a:srgbClr val="70002d"/>
              </a:gs>
              <a:gs pos="100000">
                <a:srgbClr val="ff00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40400" y="2173680"/>
            <a:ext cx="1779840" cy="1974600"/>
            <a:chOff x="6440400" y="2173680"/>
            <a:chExt cx="1779840" cy="1974600"/>
          </a:xfrm>
        </p:grpSpPr>
        <p:sp>
          <p:nvSpPr>
            <p:cNvPr id="212" name=""/>
            <p:cNvSpPr/>
            <p:nvPr/>
          </p:nvSpPr>
          <p:spPr>
            <a:xfrm>
              <a:off x="7277040" y="2173680"/>
              <a:ext cx="142200" cy="12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3"/>
                  </a:moveTo>
                  <a:arcTo wR="10800" hR="10800" stAng="-8627" swAng="5408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3"/>
                  </a:moveTo>
                  <a:arcTo wR="10800" hR="10800" stAng="-8627" swAng="5408627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99200" y="2598480"/>
              <a:ext cx="231120" cy="154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52" y="1"/>
                  </a:moveTo>
                  <a:arcTo wR="10800" hR="10800" stAng="-5447042" swAng="568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2" y="1"/>
                  </a:moveTo>
                  <a:arcTo wR="10800" hR="10800" stAng="-5447042" swAng="5689233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380000" y="3310920"/>
              <a:ext cx="6660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7227720" y="3234600"/>
              <a:ext cx="66240" cy="19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0400" y="3330360"/>
              <a:ext cx="88200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1" y="0"/>
                  </a:moveTo>
                  <a:arcTo wR="10800" hR="10800" stAng="-5412275" swAng="5361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1" y="0"/>
                  </a:moveTo>
                  <a:arcTo wR="10800" hR="10800" stAng="-5412275" swAng="53613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45080" y="3320640"/>
              <a:ext cx="875160" cy="2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5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4920000">
              <a:off x="7707960" y="3110400"/>
              <a:ext cx="48960" cy="428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0280000">
              <a:off x="7140600" y="2977560"/>
              <a:ext cx="72360" cy="302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260000">
              <a:off x="7466040" y="2970000"/>
              <a:ext cx="85320" cy="369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220000">
              <a:off x="7216200" y="2849400"/>
              <a:ext cx="71280" cy="263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">
              <a:off x="6825960" y="3285720"/>
              <a:ext cx="388800" cy="71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220000">
              <a:off x="7216200" y="2530440"/>
              <a:ext cx="71280" cy="263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260000">
              <a:off x="7404120" y="2598480"/>
              <a:ext cx="85320" cy="369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H="1" flipV="1">
            <a:off x="2466720" y="4275000"/>
            <a:ext cx="331452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suite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227" name="retour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3080" y="1111680"/>
            <a:ext cx="236376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mple d'enfouiss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3080" y="1766880"/>
            <a:ext cx="120600" cy="539640"/>
          </a:xfrm>
          <a:prstGeom prst="rect">
            <a:avLst/>
          </a:prstGeom>
          <a:gradFill rotWithShape="0">
            <a:gsLst>
              <a:gs pos="0">
                <a:srgbClr val="005a43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73280"/>
            <a:ext cx="2784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rsque la conduite est placée en caniveau, celui ci doit être rempli de sabl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080" y="5238720"/>
            <a:ext cx="3352680" cy="817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s ce cas, le caniveau est considéré comme protection mécan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DA27-099A-42BD-9EFB-EC90CD32229E}" type="slidenum">
              <a:t>8</a:t>
            </a:fld>
          </a:p>
        </p:txBody>
      </p:sp>
    </p:spTree>
  </p:cSld>
  <p:transition spd="med"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GSRP003a" descr=""/>
          <p:cNvPicPr/>
          <p:nvPr/>
        </p:nvPicPr>
        <p:blipFill>
          <a:blip r:embed="rId1"/>
          <a:stretch/>
        </p:blipFill>
        <p:spPr>
          <a:xfrm>
            <a:off x="3381480" y="1646280"/>
            <a:ext cx="4248000" cy="4686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43080" y="1849320"/>
            <a:ext cx="5371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rsque la tranchée contient plusieurs canalisatio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34040" y="2967120"/>
            <a:ext cx="298440" cy="29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15080" y="4040280"/>
            <a:ext cx="164880" cy="164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511520" y="5300640"/>
            <a:ext cx="1216080" cy="305640"/>
            <a:chOff x="4511520" y="5300640"/>
            <a:chExt cx="1216080" cy="305640"/>
          </a:xfrm>
        </p:grpSpPr>
        <p:sp>
          <p:nvSpPr>
            <p:cNvPr id="237" name=""/>
            <p:cNvSpPr/>
            <p:nvPr/>
          </p:nvSpPr>
          <p:spPr>
            <a:xfrm>
              <a:off x="5511600" y="5318280"/>
              <a:ext cx="216000" cy="2156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11520" y="5300640"/>
              <a:ext cx="6192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127920" y="3738600"/>
            <a:ext cx="1089000" cy="506520"/>
            <a:chOff x="6127920" y="3738600"/>
            <a:chExt cx="1089000" cy="506520"/>
          </a:xfrm>
        </p:grpSpPr>
        <p:sp>
          <p:nvSpPr>
            <p:cNvPr id="240" name=""/>
            <p:cNvSpPr/>
            <p:nvPr/>
          </p:nvSpPr>
          <p:spPr>
            <a:xfrm>
              <a:off x="6127920" y="3983040"/>
              <a:ext cx="262080" cy="26208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13560" y="3738600"/>
              <a:ext cx="6033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GA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43080" y="2627280"/>
            <a:ext cx="120600" cy="701640"/>
          </a:xfrm>
          <a:prstGeom prst="rect">
            <a:avLst/>
          </a:prstGeom>
          <a:gradFill rotWithShape="0">
            <a:gsLst>
              <a:gs pos="0">
                <a:srgbClr val="00624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8120" y="2554200"/>
            <a:ext cx="2305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tuyauteries gaz doivent être désaxées par rapport aux canalisations d’eau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89640" y="3306600"/>
            <a:ext cx="1079280" cy="2012760"/>
            <a:chOff x="5489640" y="3306600"/>
            <a:chExt cx="1079280" cy="2012760"/>
          </a:xfrm>
        </p:grpSpPr>
        <p:sp>
          <p:nvSpPr>
            <p:cNvPr id="245" name=""/>
            <p:cNvSpPr/>
            <p:nvPr/>
          </p:nvSpPr>
          <p:spPr>
            <a:xfrm flipV="1">
              <a:off x="5724360" y="3547800"/>
              <a:ext cx="0" cy="1771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111720" y="3541680"/>
              <a:ext cx="0" cy="5047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34080" y="3595680"/>
              <a:ext cx="3650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9640" y="3306600"/>
              <a:ext cx="1079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20cm mi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43080" y="4686480"/>
            <a:ext cx="120600" cy="520560"/>
          </a:xfrm>
          <a:prstGeom prst="rect">
            <a:avLst/>
          </a:prstGeom>
          <a:gradFill rotWithShape="0">
            <a:gsLst>
              <a:gs pos="0">
                <a:srgbClr val="00684e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4621320"/>
            <a:ext cx="2286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onduite de gaz doit être placée au dessus de celle de l’eau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suite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15040" y="6399360"/>
            <a:ext cx="838440" cy="266400"/>
          </a:xfrm>
          <a:prstGeom prst="rect">
            <a:avLst/>
          </a:prstGeom>
          <a:ln w="0">
            <a:noFill/>
          </a:ln>
        </p:spPr>
      </p:pic>
      <p:pic>
        <p:nvPicPr>
          <p:cNvPr id="252" name="retour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6234120" y="6400800"/>
            <a:ext cx="838080" cy="266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3080" y="1111680"/>
            <a:ext cx="52624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98987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 de la conduite gaz par rapport à une conduite d'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3080" y="3622680"/>
            <a:ext cx="120600" cy="673200"/>
          </a:xfrm>
          <a:prstGeom prst="rect">
            <a:avLst/>
          </a:prstGeom>
          <a:gradFill rotWithShape="0">
            <a:gsLst>
              <a:gs pos="0">
                <a:srgbClr val="00624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2760" y="3546360"/>
            <a:ext cx="2304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istance entre les 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génératrices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les plus proches doit être au moins égale à 20cm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7EBC-5CF5-41EA-A9CD-7D8E9389715C}" type="slidenum">
              <a:t>9</a:t>
            </a:fld>
          </a:p>
        </p:txBody>
      </p:sp>
    </p:spTree>
  </p:cSld>
  <p:transition spd="med"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8T12:11:28Z</dcterms:created>
  <dc:creator>AFPA - DI - D BTP Toulouse - secteur Equipement Genie Climatique</dc:creator>
  <dc:description>Version 2.5 - aout 2005  - Propriete AFPA
Version animée
Nom du produit : GAZPART
Contenu technique des diapositives : CéGIBAT - AFPA
Messages sonores experimentaux non valides
</dc:description>
  <cp:keywords>GAZ - Reglementation - habitation Individuelle - notice technique</cp:keywords>
  <dc:language>en-US</dc:language>
  <cp:lastModifiedBy>jj</cp:lastModifiedBy>
  <cp:lastPrinted>2001-06-18T07:14:38Z</cp:lastPrinted>
  <dcterms:modified xsi:type="dcterms:W3CDTF">2007-11-02T18:59:11Z</dcterms:modified>
  <cp:revision>515</cp:revision>
  <dc:subject>Reglementation gaz en habitation individuelle</dc:subject>
  <dc:title>Les conduites enterrées - animé</dc:title>
</cp:coreProperties>
</file>