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797-DCD6-49BA-9256-1DD1C7B0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1E9-C400-4810-97A3-0F36A446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B52-40F5-4AFA-982D-FC55C06F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0FC-0AC1-49B3-A4A7-3E64D28F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966-4210-4B08-9A49-07AAB811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F90-D801-423A-8301-78FC8A25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D700-2A87-4FEC-8DCC-19505AC4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4A1-78EA-461C-A97E-7D42F0D1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E62-2373-47DC-8523-7FA1428D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27A-0622-4506-BB3C-8F1922C2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AC9-AC86-4E02-9821-6A8BBF5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80A-62DF-4C75-B83F-932AB841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3F20-072E-404E-8942-D75F3D328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2.xml"/><Relationship Id="rId3" Type="http://schemas.openxmlformats.org/officeDocument/2006/relationships/image" Target="../media/image1.jpeg"/><Relationship Id="rId4" Type="http://schemas.openxmlformats.org/officeDocument/2006/relationships/slide" Target="slide28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35652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-M R. D-B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253836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valon"/>
              </a:rPr>
              <a:t>LA SOUPAPE DIFFERENTIEL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9200" y="63565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 DI D BTP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654-C6FB-47BA-8E14-12F1D97468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680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681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758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762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766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772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4113360" y="2071800"/>
            <a:ext cx="444240" cy="1117440"/>
          </a:xfrm>
          <a:prstGeom prst="upArrow">
            <a:avLst>
              <a:gd name="adj1" fmla="val 50000"/>
              <a:gd name="adj2" fmla="val 62885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65760" y="2448000"/>
            <a:ext cx="444600" cy="741240"/>
          </a:xfrm>
          <a:prstGeom prst="upArrow">
            <a:avLst>
              <a:gd name="adj1" fmla="val 50000"/>
              <a:gd name="adj2" fmla="val 41680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47040" y="2262240"/>
            <a:ext cx="444600" cy="927000"/>
          </a:xfrm>
          <a:prstGeom prst="upArrow">
            <a:avLst>
              <a:gd name="adj1" fmla="val 50000"/>
              <a:gd name="adj2" fmla="val 52126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82960" y="2395440"/>
            <a:ext cx="0" cy="6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657600" y="311436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477040" y="32526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7182000" y="3176280"/>
            <a:ext cx="468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403440" y="739800"/>
            <a:ext cx="5740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installation est équipée d’une 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30400" y="4394160"/>
            <a:ext cx="718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upape, placée après la pompe et en dérivation de l’ensemble des radiateurs s’ouvrira automatiquement et progressivement à la fermeture des robinets thermosta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17440" y="5499000"/>
            <a:ext cx="704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ci permet d’obtenir une perte de charge du résea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constante et donc un débit constant sur la pom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1955880" y="2805120"/>
            <a:ext cx="812880" cy="276480"/>
            <a:chOff x="1955880" y="2805120"/>
            <a:chExt cx="812880" cy="276480"/>
          </a:xfrm>
        </p:grpSpPr>
        <p:sp>
          <p:nvSpPr>
            <p:cNvPr id="786" name=""/>
            <p:cNvSpPr/>
            <p:nvPr/>
          </p:nvSpPr>
          <p:spPr>
            <a:xfrm>
              <a:off x="2133720" y="280512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55880" y="306072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8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789" name="">
            <a:hlinkClick r:id="rId6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123-2820-4CE4-87A1-DDEFA2520E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792" name=""/>
          <p:cNvGrpSpPr/>
          <p:nvPr/>
        </p:nvGrpSpPr>
        <p:grpSpPr>
          <a:xfrm>
            <a:off x="3273480" y="801720"/>
            <a:ext cx="2298600" cy="2552760"/>
            <a:chOff x="3273480" y="801720"/>
            <a:chExt cx="2298600" cy="2552760"/>
          </a:xfrm>
        </p:grpSpPr>
        <p:sp>
          <p:nvSpPr>
            <p:cNvPr id="793" name=""/>
            <p:cNvSpPr/>
            <p:nvPr/>
          </p:nvSpPr>
          <p:spPr>
            <a:xfrm>
              <a:off x="3273480" y="801720"/>
              <a:ext cx="2298600" cy="255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4" name="" descr=""/>
            <p:cNvPicPr/>
            <p:nvPr/>
          </p:nvPicPr>
          <p:blipFill>
            <a:blip r:embed="rId2"/>
            <a:stretch/>
          </p:blipFill>
          <p:spPr>
            <a:xfrm>
              <a:off x="3748320" y="1082880"/>
              <a:ext cx="136836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3768840" y="282132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équer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2394000" y="4813200"/>
            <a:ext cx="1514520" cy="1133280"/>
            <a:chOff x="2394000" y="4813200"/>
            <a:chExt cx="1514520" cy="1133280"/>
          </a:xfrm>
        </p:grpSpPr>
        <p:sp>
          <p:nvSpPr>
            <p:cNvPr id="797" name=""/>
            <p:cNvSpPr/>
            <p:nvPr/>
          </p:nvSpPr>
          <p:spPr>
            <a:xfrm>
              <a:off x="3022920" y="5270400"/>
              <a:ext cx="428400" cy="352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200000">
              <a:off x="3203640" y="5088960"/>
              <a:ext cx="428760" cy="352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41800" y="5622840"/>
              <a:ext cx="0" cy="32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594240" y="5279760"/>
              <a:ext cx="31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3232440" y="513684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3232440" y="5069880"/>
              <a:ext cx="8568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156120" y="5060880"/>
              <a:ext cx="1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3156120" y="4993560"/>
              <a:ext cx="8568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251520" y="4813200"/>
              <a:ext cx="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908440" y="525132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94000" y="5070240"/>
              <a:ext cx="505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84560" y="48132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2244600" y="3876840"/>
            <a:ext cx="451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symboles de la soupape différentiel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4797360" y="5041800"/>
            <a:ext cx="1508040" cy="457920"/>
            <a:chOff x="4797360" y="5041800"/>
            <a:chExt cx="1508040" cy="457920"/>
          </a:xfrm>
        </p:grpSpPr>
        <p:grpSp>
          <p:nvGrpSpPr>
            <p:cNvPr id="811" name=""/>
            <p:cNvGrpSpPr/>
            <p:nvPr/>
          </p:nvGrpSpPr>
          <p:grpSpPr>
            <a:xfrm>
              <a:off x="5118840" y="5041800"/>
              <a:ext cx="874080" cy="457920"/>
              <a:chOff x="5118840" y="5041800"/>
              <a:chExt cx="874080" cy="457920"/>
            </a:xfrm>
          </p:grpSpPr>
          <p:sp>
            <p:nvSpPr>
              <p:cNvPr id="812" name=""/>
              <p:cNvSpPr/>
              <p:nvPr/>
            </p:nvSpPr>
            <p:spPr>
              <a:xfrm flipV="1" rot="16200000">
                <a:off x="5147640" y="5013000"/>
                <a:ext cx="457920" cy="515520"/>
              </a:xfrm>
              <a:prstGeom prst="flowChartExtra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6200000">
                <a:off x="5673240" y="5089320"/>
                <a:ext cx="300240" cy="338760"/>
              </a:xfrm>
              <a:prstGeom prst="flowChartExtra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5562720" y="51897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797360" y="5270400"/>
              <a:ext cx="31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1120" y="5270400"/>
              <a:ext cx="31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038480" y="504684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logo DI D BTP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rId4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9E2-E198-43FD-BB5C-560BE6B884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95560" y="1739880"/>
            <a:ext cx="4470480" cy="454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5392800" y="2284560"/>
            <a:ext cx="2684520" cy="74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90840" y="4546440"/>
            <a:ext cx="241200" cy="636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390840" y="4114800"/>
            <a:ext cx="1766880" cy="53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311560" y="4330800"/>
            <a:ext cx="1083960" cy="61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84280" y="952560"/>
            <a:ext cx="53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cipe de fonctionnement de la soupape différentiel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02400" y="2400480"/>
            <a:ext cx="292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s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646440" y="4651200"/>
            <a:ext cx="0" cy="5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622680" y="4651200"/>
            <a:ext cx="56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165560" y="456876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653000" y="4565160"/>
            <a:ext cx="4680" cy="1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413160" y="4110120"/>
            <a:ext cx="86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200480" y="2373120"/>
            <a:ext cx="0" cy="163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4619160" y="2373120"/>
            <a:ext cx="3240" cy="163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610160" y="4000680"/>
            <a:ext cx="19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97440" y="3997440"/>
            <a:ext cx="20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4278240" y="2476440"/>
            <a:ext cx="282240" cy="639720"/>
            <a:chOff x="4278240" y="2476440"/>
            <a:chExt cx="282240" cy="639720"/>
          </a:xfrm>
        </p:grpSpPr>
        <p:grpSp>
          <p:nvGrpSpPr>
            <p:cNvPr id="839" name=""/>
            <p:cNvGrpSpPr/>
            <p:nvPr/>
          </p:nvGrpSpPr>
          <p:grpSpPr>
            <a:xfrm>
              <a:off x="4278240" y="2476440"/>
              <a:ext cx="270000" cy="159840"/>
              <a:chOff x="4278240" y="2476440"/>
              <a:chExt cx="270000" cy="15984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4278240" y="2556360"/>
                <a:ext cx="2700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278240" y="2476440"/>
                <a:ext cx="2700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4284360" y="2636280"/>
              <a:ext cx="270000" cy="159840"/>
              <a:chOff x="4284360" y="2636280"/>
              <a:chExt cx="270000" cy="159840"/>
            </a:xfrm>
          </p:grpSpPr>
          <p:sp>
            <p:nvSpPr>
              <p:cNvPr id="843" name=""/>
              <p:cNvSpPr/>
              <p:nvPr/>
            </p:nvSpPr>
            <p:spPr>
              <a:xfrm flipV="1">
                <a:off x="4284360" y="2716200"/>
                <a:ext cx="2700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284360" y="2636280"/>
                <a:ext cx="2700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4284360" y="2796480"/>
              <a:ext cx="270000" cy="159840"/>
              <a:chOff x="4284360" y="2796480"/>
              <a:chExt cx="270000" cy="159840"/>
            </a:xfrm>
          </p:grpSpPr>
          <p:sp>
            <p:nvSpPr>
              <p:cNvPr id="846" name=""/>
              <p:cNvSpPr/>
              <p:nvPr/>
            </p:nvSpPr>
            <p:spPr>
              <a:xfrm flipV="1">
                <a:off x="4284360" y="2876400"/>
                <a:ext cx="2700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284360" y="2796480"/>
                <a:ext cx="2700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4290480" y="2956320"/>
              <a:ext cx="270000" cy="159840"/>
              <a:chOff x="4290480" y="2956320"/>
              <a:chExt cx="270000" cy="159840"/>
            </a:xfrm>
          </p:grpSpPr>
          <p:sp>
            <p:nvSpPr>
              <p:cNvPr id="849" name=""/>
              <p:cNvSpPr/>
              <p:nvPr/>
            </p:nvSpPr>
            <p:spPr>
              <a:xfrm flipV="1">
                <a:off x="4290480" y="3036240"/>
                <a:ext cx="2700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90480" y="2956320"/>
                <a:ext cx="2700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 flipV="1">
            <a:off x="3398760" y="4939920"/>
            <a:ext cx="0" cy="2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3395520" y="4090680"/>
            <a:ext cx="3240" cy="26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78160" y="4572000"/>
            <a:ext cx="4572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357880" y="4359240"/>
            <a:ext cx="966600" cy="58896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60840" y="4667400"/>
            <a:ext cx="1719360" cy="5252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78160" y="4570560"/>
            <a:ext cx="459000" cy="968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37200" y="4125960"/>
            <a:ext cx="255600" cy="5414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606840" y="367992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72080" y="334008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4403880" y="558756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06840" y="243828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772080" y="276876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4102200" y="3127320"/>
            <a:ext cx="604800" cy="1654200"/>
            <a:chOff x="4102200" y="3127320"/>
            <a:chExt cx="604800" cy="1654200"/>
          </a:xfrm>
        </p:grpSpPr>
        <p:sp>
          <p:nvSpPr>
            <p:cNvPr id="864" name=""/>
            <p:cNvSpPr/>
            <p:nvPr/>
          </p:nvSpPr>
          <p:spPr>
            <a:xfrm>
              <a:off x="4102200" y="4451400"/>
              <a:ext cx="604800" cy="1191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63920" y="3227400"/>
              <a:ext cx="98640" cy="1224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45120" y="3127320"/>
              <a:ext cx="338040" cy="109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49800" y="4568760"/>
              <a:ext cx="315720" cy="212760"/>
            </a:xfrm>
            <a:custGeom>
              <a:avLst/>
              <a:gdLst>
                <a:gd name="textAreaLeft" fmla="*/ 69480 w 315720"/>
                <a:gd name="textAreaRight" fmla="*/ 246240 w 315720"/>
                <a:gd name="textAreaTop" fmla="*/ 46800 h 212760"/>
                <a:gd name="textAreaBottom" fmla="*/ 1659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5380200" y="4343400"/>
            <a:ext cx="94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84880" y="4960800"/>
            <a:ext cx="93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5381640" y="4100040"/>
            <a:ext cx="0" cy="258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391000" y="494460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81480" y="5192640"/>
            <a:ext cx="200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646520" y="4656240"/>
            <a:ext cx="490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5138640" y="409680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2311560" y="4330800"/>
            <a:ext cx="1079280" cy="622080"/>
            <a:chOff x="2311560" y="4330800"/>
            <a:chExt cx="1079280" cy="622080"/>
          </a:xfrm>
        </p:grpSpPr>
        <p:sp>
          <p:nvSpPr>
            <p:cNvPr id="876" name=""/>
            <p:cNvSpPr/>
            <p:nvPr/>
          </p:nvSpPr>
          <p:spPr>
            <a:xfrm>
              <a:off x="2311560" y="4330800"/>
              <a:ext cx="107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19120" y="4952880"/>
              <a:ext cx="107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4464000" y="4029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73560" y="4029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4255920" y="4013280"/>
            <a:ext cx="0" cy="7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4564080" y="4012920"/>
            <a:ext cx="144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16520" y="3997440"/>
            <a:ext cx="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00600" y="3981600"/>
            <a:ext cx="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108320" y="2092320"/>
            <a:ext cx="601920" cy="544680"/>
            <a:chOff x="4108320" y="2092320"/>
            <a:chExt cx="601920" cy="544680"/>
          </a:xfrm>
        </p:grpSpPr>
        <p:sp>
          <p:nvSpPr>
            <p:cNvPr id="885" name=""/>
            <p:cNvSpPr/>
            <p:nvPr/>
          </p:nvSpPr>
          <p:spPr>
            <a:xfrm>
              <a:off x="4259160" y="2457360"/>
              <a:ext cx="2890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11800" y="2097000"/>
              <a:ext cx="0" cy="3794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108320" y="2092320"/>
              <a:ext cx="60192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134960" y="2097000"/>
              <a:ext cx="1800" cy="5400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86480" y="2097000"/>
              <a:ext cx="0" cy="5400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59160" y="2438280"/>
              <a:ext cx="5040" cy="100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43560" y="2438280"/>
              <a:ext cx="4680" cy="100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H="1">
            <a:off x="4548240" y="4114800"/>
            <a:ext cx="84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902040" y="567864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logo DI D BTP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44A-2E3B-4C8D-9DAF-AC7D6E7F27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95560" y="1739880"/>
            <a:ext cx="4470480" cy="454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5392800" y="2284560"/>
            <a:ext cx="2684520" cy="74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90840" y="4546440"/>
            <a:ext cx="241200" cy="6368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90840" y="4114800"/>
            <a:ext cx="1766880" cy="53640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311560" y="4330800"/>
            <a:ext cx="1083960" cy="61596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84280" y="952560"/>
            <a:ext cx="53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cipe de fonctionnement de la soupape différentiel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702400" y="2400480"/>
            <a:ext cx="292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s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646440" y="4651200"/>
            <a:ext cx="0" cy="5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22680" y="4651200"/>
            <a:ext cx="56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4165560" y="456876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653000" y="4565160"/>
            <a:ext cx="4680" cy="1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3413160" y="4110120"/>
            <a:ext cx="86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4200480" y="2373120"/>
            <a:ext cx="0" cy="163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4619160" y="2373120"/>
            <a:ext cx="3240" cy="163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610160" y="4000680"/>
            <a:ext cx="19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997440" y="3997440"/>
            <a:ext cx="20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3398760" y="4939920"/>
            <a:ext cx="0" cy="2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95520" y="4090680"/>
            <a:ext cx="3240" cy="26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178160" y="4572000"/>
            <a:ext cx="4572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57880" y="4359240"/>
            <a:ext cx="966600" cy="58896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60840" y="4667400"/>
            <a:ext cx="1719360" cy="5252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178160" y="4570560"/>
            <a:ext cx="459000" cy="968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37200" y="4125960"/>
            <a:ext cx="255600" cy="5414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06840" y="367992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772080" y="334008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6840" y="243828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72080" y="276876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102200" y="3025800"/>
            <a:ext cx="604800" cy="1654200"/>
            <a:chOff x="4102200" y="3025800"/>
            <a:chExt cx="604800" cy="1654200"/>
          </a:xfrm>
        </p:grpSpPr>
        <p:sp>
          <p:nvSpPr>
            <p:cNvPr id="926" name=""/>
            <p:cNvSpPr/>
            <p:nvPr/>
          </p:nvSpPr>
          <p:spPr>
            <a:xfrm>
              <a:off x="4102200" y="4349880"/>
              <a:ext cx="604800" cy="1191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63920" y="3125880"/>
              <a:ext cx="98640" cy="1224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45120" y="3025800"/>
              <a:ext cx="338040" cy="109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49800" y="4467240"/>
              <a:ext cx="315720" cy="212760"/>
            </a:xfrm>
            <a:custGeom>
              <a:avLst/>
              <a:gdLst>
                <a:gd name="textAreaLeft" fmla="*/ 69480 w 315720"/>
                <a:gd name="textAreaRight" fmla="*/ 246240 w 315720"/>
                <a:gd name="textAreaTop" fmla="*/ 46800 h 212760"/>
                <a:gd name="textAreaBottom" fmla="*/ 1659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5380200" y="4343400"/>
            <a:ext cx="94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384880" y="4960800"/>
            <a:ext cx="93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381640" y="4100040"/>
            <a:ext cx="0" cy="258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391000" y="494460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381480" y="5192640"/>
            <a:ext cx="200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646520" y="4656240"/>
            <a:ext cx="490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5138640" y="409680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2311560" y="4330800"/>
            <a:ext cx="1079280" cy="622080"/>
            <a:chOff x="2311560" y="4330800"/>
            <a:chExt cx="1079280" cy="622080"/>
          </a:xfrm>
        </p:grpSpPr>
        <p:sp>
          <p:nvSpPr>
            <p:cNvPr id="938" name=""/>
            <p:cNvSpPr/>
            <p:nvPr/>
          </p:nvSpPr>
          <p:spPr>
            <a:xfrm>
              <a:off x="2311560" y="4330800"/>
              <a:ext cx="107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19120" y="4952880"/>
              <a:ext cx="107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4464000" y="4029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273560" y="4029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4255920" y="4013280"/>
            <a:ext cx="0" cy="7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 flipV="1">
            <a:off x="4564080" y="4012920"/>
            <a:ext cx="144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016520" y="3997440"/>
            <a:ext cx="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00600" y="3981600"/>
            <a:ext cx="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108320" y="2092320"/>
            <a:ext cx="601920" cy="544680"/>
            <a:chOff x="4108320" y="2092320"/>
            <a:chExt cx="601920" cy="544680"/>
          </a:xfrm>
        </p:grpSpPr>
        <p:sp>
          <p:nvSpPr>
            <p:cNvPr id="947" name=""/>
            <p:cNvSpPr/>
            <p:nvPr/>
          </p:nvSpPr>
          <p:spPr>
            <a:xfrm>
              <a:off x="4259160" y="2457360"/>
              <a:ext cx="2890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11800" y="2097000"/>
              <a:ext cx="0" cy="3794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08320" y="2092320"/>
              <a:ext cx="60192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4134960" y="2097000"/>
              <a:ext cx="1800" cy="5400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86480" y="2097000"/>
              <a:ext cx="0" cy="5400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259160" y="2438280"/>
              <a:ext cx="5040" cy="100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43560" y="2438280"/>
              <a:ext cx="4680" cy="100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 flipH="1">
            <a:off x="4548240" y="4114800"/>
            <a:ext cx="84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4278240" y="2501640"/>
            <a:ext cx="282240" cy="523440"/>
            <a:chOff x="4278240" y="2501640"/>
            <a:chExt cx="282240" cy="523440"/>
          </a:xfrm>
        </p:grpSpPr>
        <p:grpSp>
          <p:nvGrpSpPr>
            <p:cNvPr id="956" name=""/>
            <p:cNvGrpSpPr/>
            <p:nvPr/>
          </p:nvGrpSpPr>
          <p:grpSpPr>
            <a:xfrm>
              <a:off x="4278240" y="2501640"/>
              <a:ext cx="270000" cy="130680"/>
              <a:chOff x="4278240" y="2501640"/>
              <a:chExt cx="270000" cy="130680"/>
            </a:xfrm>
          </p:grpSpPr>
          <p:sp>
            <p:nvSpPr>
              <p:cNvPr id="957" name=""/>
              <p:cNvSpPr/>
              <p:nvPr/>
            </p:nvSpPr>
            <p:spPr>
              <a:xfrm flipV="1">
                <a:off x="4278240" y="2567160"/>
                <a:ext cx="27000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278240" y="2501640"/>
                <a:ext cx="27000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4284360" y="2632680"/>
              <a:ext cx="270000" cy="131040"/>
              <a:chOff x="4284360" y="2632680"/>
              <a:chExt cx="270000" cy="131040"/>
            </a:xfrm>
          </p:grpSpPr>
          <p:sp>
            <p:nvSpPr>
              <p:cNvPr id="960" name=""/>
              <p:cNvSpPr/>
              <p:nvPr/>
            </p:nvSpPr>
            <p:spPr>
              <a:xfrm flipV="1">
                <a:off x="4284360" y="2698200"/>
                <a:ext cx="27000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84360" y="2632680"/>
                <a:ext cx="27000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4284360" y="2763720"/>
              <a:ext cx="270000" cy="130680"/>
              <a:chOff x="4284360" y="2763720"/>
              <a:chExt cx="270000" cy="130680"/>
            </a:xfrm>
          </p:grpSpPr>
          <p:sp>
            <p:nvSpPr>
              <p:cNvPr id="963" name=""/>
              <p:cNvSpPr/>
              <p:nvPr/>
            </p:nvSpPr>
            <p:spPr>
              <a:xfrm flipV="1">
                <a:off x="4284360" y="2829240"/>
                <a:ext cx="27000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84360" y="2763720"/>
                <a:ext cx="27000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4290480" y="2894400"/>
              <a:ext cx="270000" cy="130680"/>
              <a:chOff x="4290480" y="2894400"/>
              <a:chExt cx="270000" cy="130680"/>
            </a:xfrm>
          </p:grpSpPr>
          <p:sp>
            <p:nvSpPr>
              <p:cNvPr id="966" name=""/>
              <p:cNvSpPr/>
              <p:nvPr/>
            </p:nvSpPr>
            <p:spPr>
              <a:xfrm flipV="1">
                <a:off x="4290480" y="2959920"/>
                <a:ext cx="27000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90480" y="2894400"/>
                <a:ext cx="27000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8" name=""/>
          <p:cNvSpPr/>
          <p:nvPr/>
        </p:nvSpPr>
        <p:spPr>
          <a:xfrm rot="16200000">
            <a:off x="2176200" y="4512600"/>
            <a:ext cx="330120" cy="26352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02040" y="567864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4403880" y="5495400"/>
            <a:ext cx="0" cy="473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1" name="logo DI D BTP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237-02E2-4D27-81AD-1EE1293307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95560" y="1739880"/>
            <a:ext cx="4470480" cy="454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5392800" y="2284560"/>
            <a:ext cx="2684520" cy="74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90840" y="4546440"/>
            <a:ext cx="241200" cy="6368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390840" y="4114800"/>
            <a:ext cx="1766880" cy="53640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311560" y="4330800"/>
            <a:ext cx="1083960" cy="61596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84280" y="952560"/>
            <a:ext cx="53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cipe de fonctionnement de la soupape différentiel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702400" y="2400480"/>
            <a:ext cx="292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s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646440" y="4651200"/>
            <a:ext cx="0" cy="5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22680" y="4651200"/>
            <a:ext cx="56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4165560" y="456876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653000" y="4565160"/>
            <a:ext cx="4680" cy="1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3413160" y="4110120"/>
            <a:ext cx="86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4200480" y="2373120"/>
            <a:ext cx="0" cy="163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4619160" y="2373120"/>
            <a:ext cx="3240" cy="163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10160" y="4000680"/>
            <a:ext cx="19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97440" y="3997440"/>
            <a:ext cx="20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3398760" y="4939920"/>
            <a:ext cx="0" cy="2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3395520" y="4090680"/>
            <a:ext cx="3240" cy="260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178160" y="4572000"/>
            <a:ext cx="4572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357880" y="4359240"/>
            <a:ext cx="966600" cy="58896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660840" y="4667400"/>
            <a:ext cx="1719360" cy="5252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178160" y="4570560"/>
            <a:ext cx="459000" cy="968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137200" y="4125960"/>
            <a:ext cx="255600" cy="541440"/>
          </a:xfrm>
          <a:prstGeom prst="rect">
            <a:avLst/>
          </a:prstGeom>
          <a:solidFill>
            <a:srgbClr val="ffd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902040" y="567864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606840" y="367992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772080" y="334008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606840" y="2438280"/>
            <a:ext cx="46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72080" y="276876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4102200" y="2924280"/>
            <a:ext cx="604800" cy="1654200"/>
            <a:chOff x="4102200" y="2924280"/>
            <a:chExt cx="604800" cy="1654200"/>
          </a:xfrm>
        </p:grpSpPr>
        <p:sp>
          <p:nvSpPr>
            <p:cNvPr id="1004" name=""/>
            <p:cNvSpPr/>
            <p:nvPr/>
          </p:nvSpPr>
          <p:spPr>
            <a:xfrm>
              <a:off x="4102200" y="4248360"/>
              <a:ext cx="604800" cy="1191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63920" y="3024360"/>
              <a:ext cx="98640" cy="1224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45120" y="2924280"/>
              <a:ext cx="338040" cy="109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249800" y="4365720"/>
              <a:ext cx="315720" cy="212760"/>
            </a:xfrm>
            <a:custGeom>
              <a:avLst/>
              <a:gdLst>
                <a:gd name="textAreaLeft" fmla="*/ 69480 w 315720"/>
                <a:gd name="textAreaRight" fmla="*/ 246240 w 315720"/>
                <a:gd name="textAreaTop" fmla="*/ 46800 h 212760"/>
                <a:gd name="textAreaBottom" fmla="*/ 16596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5380200" y="4343400"/>
            <a:ext cx="94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384880" y="4960800"/>
            <a:ext cx="93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381640" y="4100040"/>
            <a:ext cx="0" cy="258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391000" y="494460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381480" y="5192640"/>
            <a:ext cx="200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646520" y="4656240"/>
            <a:ext cx="490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138640" y="409680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2311560" y="4330800"/>
            <a:ext cx="1079280" cy="622080"/>
            <a:chOff x="2311560" y="4330800"/>
            <a:chExt cx="1079280" cy="622080"/>
          </a:xfrm>
        </p:grpSpPr>
        <p:sp>
          <p:nvSpPr>
            <p:cNvPr id="1016" name=""/>
            <p:cNvSpPr/>
            <p:nvPr/>
          </p:nvSpPr>
          <p:spPr>
            <a:xfrm>
              <a:off x="2311560" y="4330800"/>
              <a:ext cx="107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319120" y="4952880"/>
              <a:ext cx="107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4464000" y="4029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73560" y="4029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255920" y="4013280"/>
            <a:ext cx="0" cy="7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4564080" y="4012920"/>
            <a:ext cx="1440" cy="96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016520" y="3997440"/>
            <a:ext cx="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800600" y="3981600"/>
            <a:ext cx="0" cy="11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4108320" y="2092320"/>
            <a:ext cx="601920" cy="544680"/>
            <a:chOff x="4108320" y="2092320"/>
            <a:chExt cx="601920" cy="544680"/>
          </a:xfrm>
        </p:grpSpPr>
        <p:sp>
          <p:nvSpPr>
            <p:cNvPr id="1025" name=""/>
            <p:cNvSpPr/>
            <p:nvPr/>
          </p:nvSpPr>
          <p:spPr>
            <a:xfrm>
              <a:off x="4259160" y="2457360"/>
              <a:ext cx="28908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11800" y="2097000"/>
              <a:ext cx="0" cy="3794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108320" y="2092320"/>
              <a:ext cx="60192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4134960" y="2097000"/>
              <a:ext cx="1800" cy="5400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86480" y="2097000"/>
              <a:ext cx="0" cy="5400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259160" y="2438280"/>
              <a:ext cx="5040" cy="100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43560" y="2438280"/>
              <a:ext cx="4680" cy="100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 flipH="1">
            <a:off x="4548240" y="4114800"/>
            <a:ext cx="84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4278240" y="2502000"/>
            <a:ext cx="282240" cy="410760"/>
            <a:chOff x="4278240" y="2502000"/>
            <a:chExt cx="282240" cy="410760"/>
          </a:xfrm>
        </p:grpSpPr>
        <p:grpSp>
          <p:nvGrpSpPr>
            <p:cNvPr id="1034" name=""/>
            <p:cNvGrpSpPr/>
            <p:nvPr/>
          </p:nvGrpSpPr>
          <p:grpSpPr>
            <a:xfrm>
              <a:off x="4278240" y="2502000"/>
              <a:ext cx="270000" cy="102240"/>
              <a:chOff x="4278240" y="2502000"/>
              <a:chExt cx="270000" cy="102240"/>
            </a:xfrm>
          </p:grpSpPr>
          <p:sp>
            <p:nvSpPr>
              <p:cNvPr id="1035" name=""/>
              <p:cNvSpPr/>
              <p:nvPr/>
            </p:nvSpPr>
            <p:spPr>
              <a:xfrm flipV="1">
                <a:off x="4278240" y="2553120"/>
                <a:ext cx="27000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278240" y="2502000"/>
                <a:ext cx="270000" cy="5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4284360" y="2604600"/>
              <a:ext cx="270000" cy="102240"/>
              <a:chOff x="4284360" y="2604600"/>
              <a:chExt cx="270000" cy="102240"/>
            </a:xfrm>
          </p:grpSpPr>
          <p:sp>
            <p:nvSpPr>
              <p:cNvPr id="1038" name=""/>
              <p:cNvSpPr/>
              <p:nvPr/>
            </p:nvSpPr>
            <p:spPr>
              <a:xfrm flipV="1">
                <a:off x="4284360" y="2655720"/>
                <a:ext cx="27000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284360" y="2604600"/>
                <a:ext cx="270000" cy="5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4284360" y="2707560"/>
              <a:ext cx="270000" cy="102240"/>
              <a:chOff x="4284360" y="2707560"/>
              <a:chExt cx="270000" cy="102240"/>
            </a:xfrm>
          </p:grpSpPr>
          <p:sp>
            <p:nvSpPr>
              <p:cNvPr id="1041" name=""/>
              <p:cNvSpPr/>
              <p:nvPr/>
            </p:nvSpPr>
            <p:spPr>
              <a:xfrm flipV="1">
                <a:off x="4284360" y="2758680"/>
                <a:ext cx="27000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284360" y="2707560"/>
                <a:ext cx="270000" cy="5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4290480" y="2810520"/>
              <a:ext cx="270000" cy="102240"/>
              <a:chOff x="4290480" y="2810520"/>
              <a:chExt cx="270000" cy="102240"/>
            </a:xfrm>
          </p:grpSpPr>
          <p:sp>
            <p:nvSpPr>
              <p:cNvPr id="1044" name=""/>
              <p:cNvSpPr/>
              <p:nvPr/>
            </p:nvSpPr>
            <p:spPr>
              <a:xfrm flipV="1">
                <a:off x="4290480" y="2861640"/>
                <a:ext cx="27000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290480" y="2810520"/>
                <a:ext cx="270000" cy="5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 rot="16200000">
            <a:off x="2045520" y="4458600"/>
            <a:ext cx="480960" cy="37440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403880" y="53211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logo DI D BTP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AD3-3EB9-4C65-8229-AC640E63E1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95560" y="1739880"/>
            <a:ext cx="4470480" cy="454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1053" name=""/>
          <p:cNvGrpSpPr/>
          <p:nvPr/>
        </p:nvGrpSpPr>
        <p:grpSpPr>
          <a:xfrm>
            <a:off x="584280" y="952560"/>
            <a:ext cx="5740200" cy="5193720"/>
            <a:chOff x="584280" y="952560"/>
            <a:chExt cx="5740200" cy="5193720"/>
          </a:xfrm>
        </p:grpSpPr>
        <p:sp>
          <p:nvSpPr>
            <p:cNvPr id="1054" name=""/>
            <p:cNvSpPr/>
            <p:nvPr/>
          </p:nvSpPr>
          <p:spPr>
            <a:xfrm>
              <a:off x="3390840" y="4546440"/>
              <a:ext cx="241200" cy="63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390840" y="4114800"/>
              <a:ext cx="1766880" cy="536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11560" y="4330800"/>
              <a:ext cx="1083960" cy="615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84280" y="952560"/>
              <a:ext cx="539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églage de la soupape différentie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3646440" y="4651200"/>
              <a:ext cx="0" cy="5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622680" y="4651200"/>
              <a:ext cx="5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165560" y="456876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4653000" y="4565160"/>
              <a:ext cx="468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3413160" y="4110120"/>
              <a:ext cx="86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4200480" y="2373120"/>
              <a:ext cx="0" cy="16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4619160" y="2373120"/>
              <a:ext cx="3240" cy="16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10160" y="400068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997440" y="3997440"/>
              <a:ext cx="20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4278240" y="2476440"/>
              <a:ext cx="282240" cy="639720"/>
              <a:chOff x="4278240" y="2476440"/>
              <a:chExt cx="282240" cy="639720"/>
            </a:xfrm>
          </p:grpSpPr>
          <p:grpSp>
            <p:nvGrpSpPr>
              <p:cNvPr id="1068" name=""/>
              <p:cNvGrpSpPr/>
              <p:nvPr/>
            </p:nvGrpSpPr>
            <p:grpSpPr>
              <a:xfrm>
                <a:off x="4278240" y="2476440"/>
                <a:ext cx="270000" cy="159840"/>
                <a:chOff x="4278240" y="2476440"/>
                <a:chExt cx="270000" cy="159840"/>
              </a:xfrm>
            </p:grpSpPr>
            <p:sp>
              <p:nvSpPr>
                <p:cNvPr id="1069" name=""/>
                <p:cNvSpPr/>
                <p:nvPr/>
              </p:nvSpPr>
              <p:spPr>
                <a:xfrm flipV="1">
                  <a:off x="4278240" y="2556360"/>
                  <a:ext cx="27000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278240" y="2476440"/>
                  <a:ext cx="27000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4284360" y="2636280"/>
                <a:ext cx="270000" cy="159840"/>
                <a:chOff x="4284360" y="2636280"/>
                <a:chExt cx="270000" cy="159840"/>
              </a:xfrm>
            </p:grpSpPr>
            <p:sp>
              <p:nvSpPr>
                <p:cNvPr id="1072" name=""/>
                <p:cNvSpPr/>
                <p:nvPr/>
              </p:nvSpPr>
              <p:spPr>
                <a:xfrm flipV="1">
                  <a:off x="4284360" y="2716200"/>
                  <a:ext cx="27000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84360" y="2636280"/>
                  <a:ext cx="27000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4284360" y="2796480"/>
                <a:ext cx="270000" cy="159840"/>
                <a:chOff x="4284360" y="2796480"/>
                <a:chExt cx="270000" cy="159840"/>
              </a:xfrm>
            </p:grpSpPr>
            <p:sp>
              <p:nvSpPr>
                <p:cNvPr id="1075" name=""/>
                <p:cNvSpPr/>
                <p:nvPr/>
              </p:nvSpPr>
              <p:spPr>
                <a:xfrm flipV="1">
                  <a:off x="4284360" y="2876400"/>
                  <a:ext cx="27000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284360" y="2796480"/>
                  <a:ext cx="27000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290480" y="2956320"/>
                <a:ext cx="270000" cy="159840"/>
                <a:chOff x="4290480" y="2956320"/>
                <a:chExt cx="270000" cy="159840"/>
              </a:xfrm>
            </p:grpSpPr>
            <p:sp>
              <p:nvSpPr>
                <p:cNvPr id="1078" name=""/>
                <p:cNvSpPr/>
                <p:nvPr/>
              </p:nvSpPr>
              <p:spPr>
                <a:xfrm flipV="1">
                  <a:off x="4290480" y="3036240"/>
                  <a:ext cx="27000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290480" y="2956320"/>
                  <a:ext cx="27000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0" name=""/>
            <p:cNvSpPr/>
            <p:nvPr/>
          </p:nvSpPr>
          <p:spPr>
            <a:xfrm flipV="1">
              <a:off x="3398760" y="4939920"/>
              <a:ext cx="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3395520" y="4090680"/>
              <a:ext cx="324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78160" y="4572000"/>
              <a:ext cx="4572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57880" y="4359240"/>
              <a:ext cx="966600" cy="588960"/>
            </a:xfrm>
            <a:prstGeom prst="rect">
              <a:avLst/>
            </a:prstGeom>
            <a:solidFill>
              <a:srgbClr val="ff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60840" y="4667400"/>
              <a:ext cx="1719360" cy="525240"/>
            </a:xfrm>
            <a:prstGeom prst="rect">
              <a:avLst/>
            </a:prstGeom>
            <a:solidFill>
              <a:srgbClr val="ff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178160" y="4570560"/>
              <a:ext cx="459000" cy="96840"/>
            </a:xfrm>
            <a:prstGeom prst="rect">
              <a:avLst/>
            </a:prstGeom>
            <a:solidFill>
              <a:srgbClr val="ff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37200" y="4125960"/>
              <a:ext cx="255600" cy="541440"/>
            </a:xfrm>
            <a:prstGeom prst="rect">
              <a:avLst/>
            </a:prstGeom>
            <a:solidFill>
              <a:srgbClr val="ff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175280" y="5740560"/>
              <a:ext cx="46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606840" y="3679920"/>
              <a:ext cx="46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772080" y="33400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4403880" y="53341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606840" y="2438280"/>
              <a:ext cx="46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72080" y="27687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4102200" y="3127320"/>
              <a:ext cx="604800" cy="1654200"/>
              <a:chOff x="4102200" y="3127320"/>
              <a:chExt cx="604800" cy="1654200"/>
            </a:xfrm>
          </p:grpSpPr>
          <p:sp>
            <p:nvSpPr>
              <p:cNvPr id="1094" name=""/>
              <p:cNvSpPr/>
              <p:nvPr/>
            </p:nvSpPr>
            <p:spPr>
              <a:xfrm>
                <a:off x="4102200" y="4451400"/>
                <a:ext cx="604800" cy="1191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363920" y="3227400"/>
                <a:ext cx="98640" cy="122400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245120" y="3127320"/>
                <a:ext cx="338040" cy="1094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249800" y="4568760"/>
                <a:ext cx="315720" cy="212760"/>
              </a:xfrm>
              <a:custGeom>
                <a:avLst/>
                <a:gdLst>
                  <a:gd name="textAreaLeft" fmla="*/ 69480 w 315720"/>
                  <a:gd name="textAreaRight" fmla="*/ 246240 w 315720"/>
                  <a:gd name="textAreaTop" fmla="*/ 46800 h 212760"/>
                  <a:gd name="textAreaBottom" fmla="*/ 1659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5380200" y="4343400"/>
              <a:ext cx="94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84880" y="4960800"/>
              <a:ext cx="93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5381640" y="4100040"/>
              <a:ext cx="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5391000" y="4944600"/>
              <a:ext cx="0" cy="26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81480" y="5192640"/>
              <a:ext cx="200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6520" y="4656240"/>
              <a:ext cx="49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5138640" y="4096800"/>
              <a:ext cx="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2311560" y="4330800"/>
              <a:ext cx="1079280" cy="622080"/>
              <a:chOff x="2311560" y="4330800"/>
              <a:chExt cx="1079280" cy="622080"/>
            </a:xfrm>
          </p:grpSpPr>
          <p:sp>
            <p:nvSpPr>
              <p:cNvPr id="1106" name=""/>
              <p:cNvSpPr/>
              <p:nvPr/>
            </p:nvSpPr>
            <p:spPr>
              <a:xfrm>
                <a:off x="2311560" y="4330800"/>
                <a:ext cx="1071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319120" y="4952880"/>
                <a:ext cx="1071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4464000" y="40291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73560" y="40291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4255920" y="4013280"/>
              <a:ext cx="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4564080" y="4012920"/>
              <a:ext cx="1440" cy="9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16520" y="3997440"/>
              <a:ext cx="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00600" y="3981600"/>
              <a:ext cx="0" cy="11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4108320" y="2092320"/>
              <a:ext cx="601920" cy="544680"/>
              <a:chOff x="4108320" y="2092320"/>
              <a:chExt cx="601920" cy="544680"/>
            </a:xfrm>
          </p:grpSpPr>
          <p:sp>
            <p:nvSpPr>
              <p:cNvPr id="1115" name=""/>
              <p:cNvSpPr/>
              <p:nvPr/>
            </p:nvSpPr>
            <p:spPr>
              <a:xfrm>
                <a:off x="4259160" y="2457360"/>
                <a:ext cx="28908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411800" y="2097000"/>
                <a:ext cx="0" cy="37944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108320" y="2092320"/>
                <a:ext cx="60192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4134960" y="2097000"/>
                <a:ext cx="1800" cy="54000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686480" y="2097000"/>
                <a:ext cx="0" cy="54000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259160" y="2438280"/>
                <a:ext cx="5040" cy="10008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543560" y="2438280"/>
                <a:ext cx="4680" cy="10008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 flipH="1">
              <a:off x="4548240" y="41148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3" name="logo DI D BTP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A44-5B24-433D-B6A9-9C7897E044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095560" y="1739880"/>
            <a:ext cx="4470480" cy="454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1128" name=""/>
          <p:cNvGrpSpPr/>
          <p:nvPr/>
        </p:nvGrpSpPr>
        <p:grpSpPr>
          <a:xfrm>
            <a:off x="584280" y="952560"/>
            <a:ext cx="5740200" cy="5193720"/>
            <a:chOff x="584280" y="952560"/>
            <a:chExt cx="5740200" cy="5193720"/>
          </a:xfrm>
        </p:grpSpPr>
        <p:sp>
          <p:nvSpPr>
            <p:cNvPr id="1129" name=""/>
            <p:cNvSpPr/>
            <p:nvPr/>
          </p:nvSpPr>
          <p:spPr>
            <a:xfrm>
              <a:off x="3390840" y="4546440"/>
              <a:ext cx="241200" cy="63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390840" y="4114800"/>
              <a:ext cx="1766880" cy="536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311560" y="4330800"/>
              <a:ext cx="1083960" cy="615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84280" y="952560"/>
              <a:ext cx="539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églage de la soupape différentie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646440" y="4651200"/>
              <a:ext cx="0" cy="5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22680" y="4651200"/>
              <a:ext cx="5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4165560" y="456876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653000" y="4565160"/>
              <a:ext cx="468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13160" y="4110120"/>
              <a:ext cx="86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4200480" y="2373120"/>
              <a:ext cx="0" cy="16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4619160" y="2373120"/>
              <a:ext cx="3240" cy="16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10160" y="400068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97440" y="3997440"/>
              <a:ext cx="20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4278240" y="2565720"/>
              <a:ext cx="282240" cy="550440"/>
              <a:chOff x="4278240" y="2565720"/>
              <a:chExt cx="282240" cy="550440"/>
            </a:xfrm>
          </p:grpSpPr>
          <p:grpSp>
            <p:nvGrpSpPr>
              <p:cNvPr id="1143" name=""/>
              <p:cNvGrpSpPr/>
              <p:nvPr/>
            </p:nvGrpSpPr>
            <p:grpSpPr>
              <a:xfrm>
                <a:off x="4278240" y="2565720"/>
                <a:ext cx="270000" cy="137160"/>
                <a:chOff x="4278240" y="2565720"/>
                <a:chExt cx="270000" cy="137160"/>
              </a:xfrm>
            </p:grpSpPr>
            <p:sp>
              <p:nvSpPr>
                <p:cNvPr id="1144" name=""/>
                <p:cNvSpPr/>
                <p:nvPr/>
              </p:nvSpPr>
              <p:spPr>
                <a:xfrm flipV="1">
                  <a:off x="4278240" y="2634120"/>
                  <a:ext cx="270000" cy="6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8240" y="2565720"/>
                  <a:ext cx="270000" cy="6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4284360" y="2703240"/>
                <a:ext cx="270000" cy="137160"/>
                <a:chOff x="4284360" y="2703240"/>
                <a:chExt cx="270000" cy="137160"/>
              </a:xfrm>
            </p:grpSpPr>
            <p:sp>
              <p:nvSpPr>
                <p:cNvPr id="1147" name=""/>
                <p:cNvSpPr/>
                <p:nvPr/>
              </p:nvSpPr>
              <p:spPr>
                <a:xfrm flipV="1">
                  <a:off x="4284360" y="2771640"/>
                  <a:ext cx="270000" cy="6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84360" y="2703240"/>
                  <a:ext cx="270000" cy="6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4284360" y="2841120"/>
                <a:ext cx="270000" cy="137160"/>
                <a:chOff x="4284360" y="2841120"/>
                <a:chExt cx="270000" cy="137160"/>
              </a:xfrm>
            </p:grpSpPr>
            <p:sp>
              <p:nvSpPr>
                <p:cNvPr id="1150" name=""/>
                <p:cNvSpPr/>
                <p:nvPr/>
              </p:nvSpPr>
              <p:spPr>
                <a:xfrm flipV="1">
                  <a:off x="4284360" y="2909520"/>
                  <a:ext cx="270000" cy="6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284360" y="2841120"/>
                  <a:ext cx="270000" cy="6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290480" y="2979000"/>
                <a:ext cx="270000" cy="137160"/>
                <a:chOff x="4290480" y="2979000"/>
                <a:chExt cx="270000" cy="137160"/>
              </a:xfrm>
            </p:grpSpPr>
            <p:sp>
              <p:nvSpPr>
                <p:cNvPr id="1153" name=""/>
                <p:cNvSpPr/>
                <p:nvPr/>
              </p:nvSpPr>
              <p:spPr>
                <a:xfrm flipV="1">
                  <a:off x="4290480" y="3047400"/>
                  <a:ext cx="270000" cy="6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90480" y="2979000"/>
                  <a:ext cx="270000" cy="6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5" name=""/>
            <p:cNvSpPr/>
            <p:nvPr/>
          </p:nvSpPr>
          <p:spPr>
            <a:xfrm flipV="1">
              <a:off x="3398760" y="4939920"/>
              <a:ext cx="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395520" y="4090680"/>
              <a:ext cx="324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78160" y="4572000"/>
              <a:ext cx="45720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357880" y="4359240"/>
              <a:ext cx="966600" cy="588960"/>
            </a:xfrm>
            <a:prstGeom prst="rect">
              <a:avLst/>
            </a:prstGeom>
            <a:solidFill>
              <a:srgbClr val="ff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60840" y="4667400"/>
              <a:ext cx="1719360" cy="525240"/>
            </a:xfrm>
            <a:prstGeom prst="rect">
              <a:avLst/>
            </a:prstGeom>
            <a:solidFill>
              <a:srgbClr val="ff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178160" y="4570560"/>
              <a:ext cx="459000" cy="96840"/>
            </a:xfrm>
            <a:prstGeom prst="rect">
              <a:avLst/>
            </a:prstGeom>
            <a:solidFill>
              <a:srgbClr val="ff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137200" y="4125960"/>
              <a:ext cx="255600" cy="541440"/>
            </a:xfrm>
            <a:prstGeom prst="rect">
              <a:avLst/>
            </a:prstGeom>
            <a:solidFill>
              <a:srgbClr val="ffd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75280" y="5740560"/>
              <a:ext cx="46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06840" y="3679920"/>
              <a:ext cx="46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772080" y="33400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4403880" y="53341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606840" y="2438280"/>
              <a:ext cx="46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72080" y="2768760"/>
              <a:ext cx="0" cy="46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4102200" y="3127320"/>
              <a:ext cx="604800" cy="1654200"/>
              <a:chOff x="4102200" y="3127320"/>
              <a:chExt cx="604800" cy="1654200"/>
            </a:xfrm>
          </p:grpSpPr>
          <p:sp>
            <p:nvSpPr>
              <p:cNvPr id="1169" name=""/>
              <p:cNvSpPr/>
              <p:nvPr/>
            </p:nvSpPr>
            <p:spPr>
              <a:xfrm>
                <a:off x="4102200" y="4451400"/>
                <a:ext cx="604800" cy="11916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363920" y="3227400"/>
                <a:ext cx="98640" cy="122400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245120" y="3127320"/>
                <a:ext cx="338040" cy="10944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249800" y="4568760"/>
                <a:ext cx="315720" cy="212760"/>
              </a:xfrm>
              <a:custGeom>
                <a:avLst/>
                <a:gdLst>
                  <a:gd name="textAreaLeft" fmla="*/ 69480 w 315720"/>
                  <a:gd name="textAreaRight" fmla="*/ 246240 w 315720"/>
                  <a:gd name="textAreaTop" fmla="*/ 46800 h 212760"/>
                  <a:gd name="textAreaBottom" fmla="*/ 165960 h 2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5380200" y="4343400"/>
              <a:ext cx="94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384880" y="4960800"/>
              <a:ext cx="93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381640" y="4100040"/>
              <a:ext cx="0" cy="2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5391000" y="4944600"/>
              <a:ext cx="0" cy="26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381480" y="5192640"/>
              <a:ext cx="200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646520" y="4656240"/>
              <a:ext cx="49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5138640" y="4096800"/>
              <a:ext cx="0" cy="5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2311560" y="4330800"/>
              <a:ext cx="1079280" cy="622080"/>
              <a:chOff x="2311560" y="4330800"/>
              <a:chExt cx="1079280" cy="622080"/>
            </a:xfrm>
          </p:grpSpPr>
          <p:sp>
            <p:nvSpPr>
              <p:cNvPr id="1181" name=""/>
              <p:cNvSpPr/>
              <p:nvPr/>
            </p:nvSpPr>
            <p:spPr>
              <a:xfrm>
                <a:off x="2311560" y="4330800"/>
                <a:ext cx="1071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319120" y="4952880"/>
                <a:ext cx="1071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4464000" y="40291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73560" y="40291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4255920" y="4013280"/>
              <a:ext cx="0" cy="7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 flipV="1">
              <a:off x="4564080" y="4012920"/>
              <a:ext cx="1440" cy="9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16520" y="3997440"/>
              <a:ext cx="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800600" y="3981600"/>
              <a:ext cx="0" cy="11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4108320" y="2181240"/>
              <a:ext cx="601920" cy="543960"/>
              <a:chOff x="4108320" y="2181240"/>
              <a:chExt cx="601920" cy="543960"/>
            </a:xfrm>
          </p:grpSpPr>
          <p:sp>
            <p:nvSpPr>
              <p:cNvPr id="1190" name=""/>
              <p:cNvSpPr/>
              <p:nvPr/>
            </p:nvSpPr>
            <p:spPr>
              <a:xfrm>
                <a:off x="4259160" y="2545920"/>
                <a:ext cx="28908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411800" y="2185560"/>
                <a:ext cx="0" cy="37908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108320" y="2181240"/>
                <a:ext cx="60192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4134960" y="2185560"/>
                <a:ext cx="1800" cy="53964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686480" y="2185560"/>
                <a:ext cx="0" cy="53964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259160" y="2526840"/>
                <a:ext cx="5040" cy="9972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543560" y="2526840"/>
                <a:ext cx="4680" cy="9972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 flipH="1">
              <a:off x="4548240" y="41148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8" name="logo DI D BTP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56F-AEF2-4D06-8758-EDAF30666D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1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1202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1203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1280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1284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1288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1294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4113360" y="2071800"/>
            <a:ext cx="444240" cy="1117440"/>
          </a:xfrm>
          <a:prstGeom prst="upArrow">
            <a:avLst>
              <a:gd name="adj1" fmla="val 50000"/>
              <a:gd name="adj2" fmla="val 62885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765760" y="2448000"/>
            <a:ext cx="444600" cy="741240"/>
          </a:xfrm>
          <a:prstGeom prst="upArrow">
            <a:avLst>
              <a:gd name="adj1" fmla="val 50000"/>
              <a:gd name="adj2" fmla="val 41680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547040" y="2262240"/>
            <a:ext cx="444600" cy="927000"/>
          </a:xfrm>
          <a:prstGeom prst="upArrow">
            <a:avLst>
              <a:gd name="adj1" fmla="val 50000"/>
              <a:gd name="adj2" fmla="val 52126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82960" y="2395440"/>
            <a:ext cx="0" cy="6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657600" y="311436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477040" y="32526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7182000" y="3176280"/>
            <a:ext cx="468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84160" y="739800"/>
            <a:ext cx="78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nement d’une installation équipée d’une 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19280" y="4533840"/>
            <a:ext cx="7738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sque les robinets thermostatiques sont ouverts, la soupape est ferm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e ne s’ouvrira que lorsqu’un des robinets se ferm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1955880" y="2805120"/>
            <a:ext cx="812880" cy="276480"/>
            <a:chOff x="1955880" y="2805120"/>
            <a:chExt cx="812880" cy="276480"/>
          </a:xfrm>
        </p:grpSpPr>
        <p:sp>
          <p:nvSpPr>
            <p:cNvPr id="1307" name=""/>
            <p:cNvSpPr/>
            <p:nvPr/>
          </p:nvSpPr>
          <p:spPr>
            <a:xfrm>
              <a:off x="2133720" y="280512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955880" y="306072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9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2B8-8E32-4370-B9AA-3C5844657C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1313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1314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1391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1395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1399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1405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4113360" y="2071800"/>
            <a:ext cx="444240" cy="1117440"/>
          </a:xfrm>
          <a:prstGeom prst="upArrow">
            <a:avLst>
              <a:gd name="adj1" fmla="val 50000"/>
              <a:gd name="adj2" fmla="val 62885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765760" y="2448000"/>
            <a:ext cx="444600" cy="741240"/>
          </a:xfrm>
          <a:prstGeom prst="upArrow">
            <a:avLst>
              <a:gd name="adj1" fmla="val 50000"/>
              <a:gd name="adj2" fmla="val 41680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47040" y="2262240"/>
            <a:ext cx="444600" cy="927000"/>
          </a:xfrm>
          <a:prstGeom prst="upArrow">
            <a:avLst>
              <a:gd name="adj1" fmla="val 50000"/>
              <a:gd name="adj2" fmla="val 52126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982960" y="2395440"/>
            <a:ext cx="0" cy="6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3657600" y="311436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5477040" y="32526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7182000" y="3176280"/>
            <a:ext cx="468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884160" y="739800"/>
            <a:ext cx="78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nement d’une installation équipée d’une 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1955880" y="2805120"/>
            <a:ext cx="812880" cy="276480"/>
            <a:chOff x="1955880" y="2805120"/>
            <a:chExt cx="812880" cy="276480"/>
          </a:xfrm>
        </p:grpSpPr>
        <p:sp>
          <p:nvSpPr>
            <p:cNvPr id="1417" name=""/>
            <p:cNvSpPr/>
            <p:nvPr/>
          </p:nvSpPr>
          <p:spPr>
            <a:xfrm>
              <a:off x="2133720" y="2805120"/>
              <a:ext cx="4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5880" y="306072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9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736560" y="4508640"/>
            <a:ext cx="76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fermeture même complète d’un ou plusieurs robinets ne viendra plus perturber le débit des autres radi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BC5-8BDD-4084-AB3C-ADBDD5CCD4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3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1424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1425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1502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1506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1510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113360" y="2071800"/>
            <a:ext cx="444240" cy="1117440"/>
          </a:xfrm>
          <a:prstGeom prst="upArrow">
            <a:avLst>
              <a:gd name="adj1" fmla="val 50000"/>
              <a:gd name="adj2" fmla="val 62885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133720" y="2805120"/>
            <a:ext cx="4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547040" y="2262240"/>
            <a:ext cx="444600" cy="927000"/>
          </a:xfrm>
          <a:prstGeom prst="upArrow">
            <a:avLst>
              <a:gd name="adj1" fmla="val 50000"/>
              <a:gd name="adj2" fmla="val 52126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982960" y="2395440"/>
            <a:ext cx="0" cy="6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3657600" y="311436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2222280" y="3408480"/>
            <a:ext cx="28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7182000" y="3176280"/>
            <a:ext cx="468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36560" y="4508640"/>
            <a:ext cx="76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fermeture même complète d’un ou plusieurs robinets ne viendra plus perturber le débit des autres radi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55880" y="306072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5340240" y="2759040"/>
            <a:ext cx="317520" cy="31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329080" y="2760840"/>
            <a:ext cx="30348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1527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0" name=""/>
          <p:cNvSpPr/>
          <p:nvPr/>
        </p:nvSpPr>
        <p:spPr>
          <a:xfrm>
            <a:off x="884160" y="739800"/>
            <a:ext cx="78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nement d’une installation équipée d’une 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1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1532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3F3-369E-4F73-91E2-852164A7AE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976320" y="2452680"/>
            <a:ext cx="7086600" cy="398880"/>
          </a:xfrm>
          <a:prstGeom prst="rect">
            <a:avLst/>
          </a:prstGeom>
          <a:gradFill rotWithShape="0">
            <a:gsLst>
              <a:gs pos="0">
                <a:srgbClr val="f8fef5"/>
              </a:gs>
              <a:gs pos="100000">
                <a:srgbClr val="99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 - génér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976320" y="3295800"/>
            <a:ext cx="7086600" cy="398880"/>
          </a:xfrm>
          <a:prstGeom prst="rect">
            <a:avLst/>
          </a:prstGeom>
          <a:gradFill rotWithShape="0">
            <a:gsLst>
              <a:gs pos="0">
                <a:srgbClr val="f8fef5"/>
              </a:gs>
              <a:gs pos="100000">
                <a:srgbClr val="99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glage hydraulique de la soupape différenti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pa355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974880" y="4105440"/>
            <a:ext cx="7086600" cy="398880"/>
          </a:xfrm>
          <a:prstGeom prst="rect">
            <a:avLst/>
          </a:prstGeom>
          <a:gradFill rotWithShape="0">
            <a:gsLst>
              <a:gs pos="0">
                <a:srgbClr val="f8fef5"/>
              </a:gs>
              <a:gs pos="100000">
                <a:srgbClr val="99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ensionnement de la 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C39-FCA2-441D-8F4F-B3F74E32C1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1535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1536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1613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1617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1621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113360" y="2071800"/>
            <a:ext cx="444240" cy="1117440"/>
          </a:xfrm>
          <a:prstGeom prst="upArrow">
            <a:avLst>
              <a:gd name="adj1" fmla="val 50000"/>
              <a:gd name="adj2" fmla="val 62885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133720" y="2805120"/>
            <a:ext cx="4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982960" y="2395440"/>
            <a:ext cx="0" cy="6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3657600" y="311436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 flipV="1">
            <a:off x="2157480" y="3431880"/>
            <a:ext cx="436320" cy="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955880" y="306072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5340240" y="2759040"/>
            <a:ext cx="317520" cy="31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329080" y="2760840"/>
            <a:ext cx="30348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7035840" y="2768760"/>
            <a:ext cx="317520" cy="315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024680" y="2770200"/>
            <a:ext cx="30312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1637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884160" y="739800"/>
            <a:ext cx="78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nement d’une installation équipée d’une 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1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1642" name=""/>
          <p:cNvSpPr/>
          <p:nvPr/>
        </p:nvSpPr>
        <p:spPr>
          <a:xfrm>
            <a:off x="736560" y="4508640"/>
            <a:ext cx="76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fermeture même complète d’un ou plusieurs robinets ne viendra plus perturber le débit des autres radi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E9C-0F99-4441-8E34-D7AEC27DAA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1647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1724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1728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1732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133720" y="2805120"/>
            <a:ext cx="4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982960" y="2395440"/>
            <a:ext cx="0" cy="6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955880" y="306072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5340240" y="2759040"/>
            <a:ext cx="317520" cy="31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329080" y="2760840"/>
            <a:ext cx="30348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7035840" y="2768760"/>
            <a:ext cx="317520" cy="315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024680" y="2770200"/>
            <a:ext cx="30312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3530520" y="2759040"/>
            <a:ext cx="317520" cy="31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519360" y="2760840"/>
            <a:ext cx="30348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027160" y="3417840"/>
            <a:ext cx="633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1748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884160" y="739800"/>
            <a:ext cx="78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ctionnement d’une installation équipée d’une 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1753" name=""/>
          <p:cNvSpPr/>
          <p:nvPr/>
        </p:nvSpPr>
        <p:spPr>
          <a:xfrm>
            <a:off x="736560" y="4508640"/>
            <a:ext cx="76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fermeture même complète d’un ou plusieurs robinets ne viendra plus perturber le débit des autres radi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358-EB7B-4AFC-9C5F-45BAD7CCBC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6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1757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1758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3628800" y="2862000"/>
            <a:ext cx="143280" cy="89280"/>
            <a:chOff x="3628800" y="2862000"/>
            <a:chExt cx="143280" cy="89280"/>
          </a:xfrm>
        </p:grpSpPr>
        <p:sp>
          <p:nvSpPr>
            <p:cNvPr id="1835" name=""/>
            <p:cNvSpPr/>
            <p:nvPr/>
          </p:nvSpPr>
          <p:spPr>
            <a:xfrm flipV="1">
              <a:off x="3714840" y="29084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 rot="5400000">
              <a:off x="3625920" y="2864520"/>
              <a:ext cx="8892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670200" y="2862360"/>
              <a:ext cx="42840" cy="88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1839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1843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6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403440" y="1282680"/>
            <a:ext cx="55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Préparation du réglag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07960" y="4165560"/>
            <a:ext cx="84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mer complètement la soupape différentielle en comprimant son ress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374920" y="2933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33520" y="557532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vrir les tés de régl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07960" y="469908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placer les têtes thermostatiques par les chapeaux et régler les robinets à la levée nomin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3595680" y="2828880"/>
            <a:ext cx="3763800" cy="231840"/>
            <a:chOff x="3595680" y="2828880"/>
            <a:chExt cx="3763800" cy="231840"/>
          </a:xfrm>
        </p:grpSpPr>
        <p:sp>
          <p:nvSpPr>
            <p:cNvPr id="1854" name=""/>
            <p:cNvSpPr/>
            <p:nvPr/>
          </p:nvSpPr>
          <p:spPr>
            <a:xfrm flipV="1">
              <a:off x="3595680" y="2859120"/>
              <a:ext cx="214200" cy="2016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7135920" y="2840040"/>
              <a:ext cx="223560" cy="2160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5456160" y="2828880"/>
              <a:ext cx="214560" cy="2016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3676680" y="2876040"/>
            <a:ext cx="3616200" cy="81360"/>
            <a:chOff x="3676680" y="2876040"/>
            <a:chExt cx="3616200" cy="81360"/>
          </a:xfrm>
        </p:grpSpPr>
        <p:sp>
          <p:nvSpPr>
            <p:cNvPr id="1858" name=""/>
            <p:cNvSpPr/>
            <p:nvPr/>
          </p:nvSpPr>
          <p:spPr>
            <a:xfrm>
              <a:off x="3678120" y="291312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3676680" y="2876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 flipV="1">
              <a:off x="3684600" y="2883960"/>
              <a:ext cx="1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3676680" y="29491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203960" y="2919240"/>
              <a:ext cx="88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7202520" y="2882880"/>
              <a:ext cx="31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flipV="1">
              <a:off x="7210440" y="2890440"/>
              <a:ext cx="1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7202520" y="2955960"/>
              <a:ext cx="31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500800" y="291312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5499000" y="2876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 flipV="1">
              <a:off x="5506560" y="2883960"/>
              <a:ext cx="1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5499000" y="29491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4937040" y="3089160"/>
            <a:ext cx="3343320" cy="190440"/>
            <a:chOff x="4937040" y="3089160"/>
            <a:chExt cx="3343320" cy="190440"/>
          </a:xfrm>
        </p:grpSpPr>
        <p:sp>
          <p:nvSpPr>
            <p:cNvPr id="1871" name=""/>
            <p:cNvSpPr/>
            <p:nvPr/>
          </p:nvSpPr>
          <p:spPr>
            <a:xfrm>
              <a:off x="4937040" y="308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429240" y="308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280360" y="308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1875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8" name="">
            <a:hlinkClick r:id="rId5" action="ppaction://hlinksldjump"/>
          </p:cNvPr>
          <p:cNvSpPr/>
          <p:nvPr/>
        </p:nvSpPr>
        <p:spPr>
          <a:xfrm>
            <a:off x="9763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glage hydraulique de la soupape différenti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logo DI D BTP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65C-E6CA-40A2-A9EC-DCAF8FA410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1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1882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1883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9" name=""/>
          <p:cNvGrpSpPr/>
          <p:nvPr/>
        </p:nvGrpSpPr>
        <p:grpSpPr>
          <a:xfrm>
            <a:off x="3628800" y="2862000"/>
            <a:ext cx="143280" cy="89280"/>
            <a:chOff x="3628800" y="2862000"/>
            <a:chExt cx="143280" cy="89280"/>
          </a:xfrm>
        </p:grpSpPr>
        <p:sp>
          <p:nvSpPr>
            <p:cNvPr id="1960" name=""/>
            <p:cNvSpPr/>
            <p:nvPr/>
          </p:nvSpPr>
          <p:spPr>
            <a:xfrm flipV="1">
              <a:off x="3714840" y="29084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 rot="5400000">
              <a:off x="3625920" y="2864520"/>
              <a:ext cx="8892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670200" y="2862360"/>
              <a:ext cx="42840" cy="88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1964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1968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07960" y="4711680"/>
            <a:ext cx="84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tre le circulateur en fonctionn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07960" y="535932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uer l’équilibrage hydraulique de chaque radiateur en agissant sur son té de régl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3595680" y="2828880"/>
            <a:ext cx="3763800" cy="231840"/>
            <a:chOff x="3595680" y="2828880"/>
            <a:chExt cx="3763800" cy="231840"/>
          </a:xfrm>
        </p:grpSpPr>
        <p:sp>
          <p:nvSpPr>
            <p:cNvPr id="1976" name=""/>
            <p:cNvSpPr/>
            <p:nvPr/>
          </p:nvSpPr>
          <p:spPr>
            <a:xfrm flipV="1">
              <a:off x="3595680" y="2859120"/>
              <a:ext cx="214200" cy="2016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7135920" y="2840040"/>
              <a:ext cx="223560" cy="2160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5456160" y="2828880"/>
              <a:ext cx="214560" cy="2016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3676680" y="2876040"/>
            <a:ext cx="3616200" cy="81360"/>
            <a:chOff x="3676680" y="2876040"/>
            <a:chExt cx="3616200" cy="81360"/>
          </a:xfrm>
        </p:grpSpPr>
        <p:sp>
          <p:nvSpPr>
            <p:cNvPr id="1980" name=""/>
            <p:cNvSpPr/>
            <p:nvPr/>
          </p:nvSpPr>
          <p:spPr>
            <a:xfrm>
              <a:off x="3678120" y="291312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3676680" y="2876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3684600" y="2883960"/>
              <a:ext cx="1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3676680" y="29491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203960" y="2919240"/>
              <a:ext cx="88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7202520" y="2882880"/>
              <a:ext cx="31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 flipV="1">
              <a:off x="7210440" y="2890440"/>
              <a:ext cx="1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7202520" y="2955960"/>
              <a:ext cx="31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500800" y="291312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5499000" y="2876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 flipV="1">
              <a:off x="5506560" y="2883960"/>
              <a:ext cx="1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5499000" y="29491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4937040" y="3089160"/>
            <a:ext cx="3343320" cy="190440"/>
            <a:chOff x="4937040" y="3089160"/>
            <a:chExt cx="3343320" cy="190440"/>
          </a:xfrm>
        </p:grpSpPr>
        <p:sp>
          <p:nvSpPr>
            <p:cNvPr id="1993" name=""/>
            <p:cNvSpPr/>
            <p:nvPr/>
          </p:nvSpPr>
          <p:spPr>
            <a:xfrm>
              <a:off x="4937040" y="308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429240" y="308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280360" y="308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6" name=""/>
          <p:cNvSpPr/>
          <p:nvPr/>
        </p:nvSpPr>
        <p:spPr>
          <a:xfrm flipH="1">
            <a:off x="2939760" y="25844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403440" y="1282680"/>
            <a:ext cx="55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Équilibrage hydraulique des radi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1999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02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003" name=""/>
          <p:cNvSpPr/>
          <p:nvPr/>
        </p:nvSpPr>
        <p:spPr>
          <a:xfrm>
            <a:off x="9763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glage hydraulique de la soupape différenti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3B3-15C5-45EA-A45B-439029829A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5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2006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2007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3628800" y="2862000"/>
            <a:ext cx="143280" cy="89280"/>
            <a:chOff x="3628800" y="2862000"/>
            <a:chExt cx="143280" cy="89280"/>
          </a:xfrm>
        </p:grpSpPr>
        <p:sp>
          <p:nvSpPr>
            <p:cNvPr id="2084" name=""/>
            <p:cNvSpPr/>
            <p:nvPr/>
          </p:nvSpPr>
          <p:spPr>
            <a:xfrm flipV="1">
              <a:off x="3714840" y="290844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 rot="5400000">
              <a:off x="3625920" y="2864520"/>
              <a:ext cx="8892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670200" y="2862360"/>
              <a:ext cx="42840" cy="88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2088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2092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5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7" name=""/>
          <p:cNvGrpSpPr/>
          <p:nvPr/>
        </p:nvGrpSpPr>
        <p:grpSpPr>
          <a:xfrm>
            <a:off x="3595680" y="2828880"/>
            <a:ext cx="3763800" cy="231840"/>
            <a:chOff x="3595680" y="2828880"/>
            <a:chExt cx="3763800" cy="231840"/>
          </a:xfrm>
        </p:grpSpPr>
        <p:sp>
          <p:nvSpPr>
            <p:cNvPr id="2098" name=""/>
            <p:cNvSpPr/>
            <p:nvPr/>
          </p:nvSpPr>
          <p:spPr>
            <a:xfrm flipV="1">
              <a:off x="3595680" y="2859120"/>
              <a:ext cx="214200" cy="2016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7135920" y="2840040"/>
              <a:ext cx="223560" cy="2160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5456160" y="2828880"/>
              <a:ext cx="214560" cy="2016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3676680" y="2876040"/>
            <a:ext cx="3616200" cy="81360"/>
            <a:chOff x="3676680" y="2876040"/>
            <a:chExt cx="3616200" cy="81360"/>
          </a:xfrm>
        </p:grpSpPr>
        <p:sp>
          <p:nvSpPr>
            <p:cNvPr id="2102" name=""/>
            <p:cNvSpPr/>
            <p:nvPr/>
          </p:nvSpPr>
          <p:spPr>
            <a:xfrm>
              <a:off x="3678120" y="291312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3676680" y="2876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3684600" y="2883960"/>
              <a:ext cx="1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676680" y="29491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203960" y="2919240"/>
              <a:ext cx="88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7202520" y="2882880"/>
              <a:ext cx="31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 flipV="1">
              <a:off x="7210440" y="2890440"/>
              <a:ext cx="1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7202520" y="2955960"/>
              <a:ext cx="31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0800" y="291312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5499000" y="2876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 flipV="1">
              <a:off x="5506560" y="2883960"/>
              <a:ext cx="1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5499000" y="29491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4" name=""/>
          <p:cNvSpPr/>
          <p:nvPr/>
        </p:nvSpPr>
        <p:spPr>
          <a:xfrm>
            <a:off x="3403440" y="1282680"/>
            <a:ext cx="55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Réglage de la soupape différenti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5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2116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9" name=""/>
          <p:cNvSpPr/>
          <p:nvPr/>
        </p:nvSpPr>
        <p:spPr>
          <a:xfrm>
            <a:off x="507960" y="4191120"/>
            <a:ext cx="84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tendre le ressort jusqu’au début d’ouverture de la soup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07960" y="483876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 le chauffage est en fonctionnement en peut constater une augmentation de la température sortie soup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374920" y="2933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960560" y="3235320"/>
            <a:ext cx="264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35040" y="5753160"/>
            <a:ext cx="774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20560" y="5791320"/>
            <a:ext cx="80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ndre alors un tout petit peu le ressort de la soupape (limite d’ouvertur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5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126" name=""/>
          <p:cNvSpPr/>
          <p:nvPr/>
        </p:nvSpPr>
        <p:spPr>
          <a:xfrm>
            <a:off x="9763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glage hydraulique de la soupape différenti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221-76F6-4939-BCB3-EF9282D9F4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8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sp>
        <p:nvSpPr>
          <p:cNvPr id="2129" name=""/>
          <p:cNvSpPr/>
          <p:nvPr/>
        </p:nvSpPr>
        <p:spPr>
          <a:xfrm>
            <a:off x="3403440" y="1282680"/>
            <a:ext cx="55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Repose des robinets thermosta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2131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3676680" y="2876040"/>
            <a:ext cx="3616200" cy="81360"/>
            <a:chOff x="3676680" y="2876040"/>
            <a:chExt cx="3616200" cy="81360"/>
          </a:xfrm>
        </p:grpSpPr>
        <p:sp>
          <p:nvSpPr>
            <p:cNvPr id="2210" name=""/>
            <p:cNvSpPr/>
            <p:nvPr/>
          </p:nvSpPr>
          <p:spPr>
            <a:xfrm>
              <a:off x="3678120" y="291312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3676680" y="2876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 flipV="1">
              <a:off x="3684600" y="2883960"/>
              <a:ext cx="1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3676680" y="29491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203960" y="2919240"/>
              <a:ext cx="88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7202520" y="2882880"/>
              <a:ext cx="31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 flipV="1">
              <a:off x="7210440" y="2890440"/>
              <a:ext cx="14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7202520" y="2955960"/>
              <a:ext cx="31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00800" y="2913120"/>
              <a:ext cx="88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5499000" y="2876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 flipV="1">
              <a:off x="5506560" y="2883960"/>
              <a:ext cx="18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5499000" y="29491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2223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507960" y="4191120"/>
            <a:ext cx="84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poser les chapeaux de réglage man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3595680" y="2828880"/>
            <a:ext cx="3763800" cy="231840"/>
            <a:chOff x="3595680" y="2828880"/>
            <a:chExt cx="3763800" cy="231840"/>
          </a:xfrm>
        </p:grpSpPr>
        <p:sp>
          <p:nvSpPr>
            <p:cNvPr id="2228" name=""/>
            <p:cNvSpPr/>
            <p:nvPr/>
          </p:nvSpPr>
          <p:spPr>
            <a:xfrm flipV="1">
              <a:off x="3595680" y="2859120"/>
              <a:ext cx="214200" cy="2016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7135920" y="2840040"/>
              <a:ext cx="223560" cy="2160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5456160" y="2828880"/>
              <a:ext cx="214560" cy="201600"/>
            </a:xfrm>
            <a:prstGeom prst="rtTriangle">
              <a:avLst/>
            </a:prstGeom>
            <a:solidFill>
              <a:srgbClr val="e7ffe7"/>
            </a:solidFill>
            <a:ln w="9360">
              <a:solidFill>
                <a:srgbClr val="e7ff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507960" y="4826160"/>
            <a:ext cx="84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nter les robinets thermostatiques sur les radiate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2" name=""/>
          <p:cNvGrpSpPr/>
          <p:nvPr/>
        </p:nvGrpSpPr>
        <p:grpSpPr>
          <a:xfrm>
            <a:off x="3628800" y="2862000"/>
            <a:ext cx="3667320" cy="98640"/>
            <a:chOff x="3628800" y="2862000"/>
            <a:chExt cx="3667320" cy="98640"/>
          </a:xfrm>
        </p:grpSpPr>
        <p:grpSp>
          <p:nvGrpSpPr>
            <p:cNvPr id="2233" name=""/>
            <p:cNvGrpSpPr/>
            <p:nvPr/>
          </p:nvGrpSpPr>
          <p:grpSpPr>
            <a:xfrm>
              <a:off x="3628800" y="2865600"/>
              <a:ext cx="143280" cy="88560"/>
              <a:chOff x="3628800" y="2865600"/>
              <a:chExt cx="143280" cy="88560"/>
            </a:xfrm>
          </p:grpSpPr>
          <p:sp>
            <p:nvSpPr>
              <p:cNvPr id="2234" name=""/>
              <p:cNvSpPr/>
              <p:nvPr/>
            </p:nvSpPr>
            <p:spPr>
              <a:xfrm flipV="1">
                <a:off x="3714840" y="2910960"/>
                <a:ext cx="57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 rot="5400000">
                <a:off x="3625920" y="2867760"/>
                <a:ext cx="88560" cy="8388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3670200" y="2865600"/>
                <a:ext cx="42840" cy="88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7153200" y="2871360"/>
              <a:ext cx="142920" cy="89280"/>
              <a:chOff x="7153200" y="2871360"/>
              <a:chExt cx="142920" cy="89280"/>
            </a:xfrm>
          </p:grpSpPr>
          <p:sp>
            <p:nvSpPr>
              <p:cNvPr id="2238" name=""/>
              <p:cNvSpPr/>
              <p:nvPr/>
            </p:nvSpPr>
            <p:spPr>
              <a:xfrm flipV="1">
                <a:off x="7238880" y="2917800"/>
                <a:ext cx="57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H="1" rot="5400000">
                <a:off x="7150680" y="2873520"/>
                <a:ext cx="88920" cy="8424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194600" y="2871720"/>
                <a:ext cx="42840" cy="88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5456160" y="2862000"/>
              <a:ext cx="142920" cy="89280"/>
              <a:chOff x="5456160" y="2862000"/>
              <a:chExt cx="142920" cy="89280"/>
            </a:xfrm>
          </p:grpSpPr>
          <p:sp>
            <p:nvSpPr>
              <p:cNvPr id="2242" name=""/>
              <p:cNvSpPr/>
              <p:nvPr/>
            </p:nvSpPr>
            <p:spPr>
              <a:xfrm flipV="1">
                <a:off x="5541840" y="2907720"/>
                <a:ext cx="572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 rot="5400000">
                <a:off x="5453640" y="2864160"/>
                <a:ext cx="88920" cy="8424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497560" y="2862360"/>
                <a:ext cx="42840" cy="88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5" name=""/>
          <p:cNvSpPr/>
          <p:nvPr/>
        </p:nvSpPr>
        <p:spPr>
          <a:xfrm>
            <a:off x="507960" y="5575320"/>
            <a:ext cx="84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gler les robinets thermosta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3689280" y="2577960"/>
            <a:ext cx="3527640" cy="190800"/>
            <a:chOff x="3689280" y="2577960"/>
            <a:chExt cx="3527640" cy="190800"/>
          </a:xfrm>
        </p:grpSpPr>
        <p:sp>
          <p:nvSpPr>
            <p:cNvPr id="2247" name=""/>
            <p:cNvSpPr/>
            <p:nvPr/>
          </p:nvSpPr>
          <p:spPr>
            <a:xfrm>
              <a:off x="3689280" y="257796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521320" y="257796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216920" y="257796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0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251" name=""/>
          <p:cNvSpPr/>
          <p:nvPr/>
        </p:nvSpPr>
        <p:spPr>
          <a:xfrm>
            <a:off x="9763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glage hydraulique de la soupape différenti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48E-D8E4-4A2B-8F19-10ECA1A0E8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3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2254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2255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2332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2336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2340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3" name=""/>
          <p:cNvSpPr/>
          <p:nvPr/>
        </p:nvSpPr>
        <p:spPr>
          <a:xfrm>
            <a:off x="1917720" y="1239840"/>
            <a:ext cx="67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te, soupape différentielle à membr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>
            <a:hlinkClick r:id="rId5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, var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1212840" y="5222880"/>
            <a:ext cx="667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s soupapes sont plutôt utilisées pour les gros résea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ur réglage s’effectue de la même façon que précédem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1959120" y="3235320"/>
            <a:ext cx="26964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flipH="1">
            <a:off x="2509920" y="3244680"/>
            <a:ext cx="301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8" name=""/>
          <p:cNvGrpSpPr/>
          <p:nvPr/>
        </p:nvGrpSpPr>
        <p:grpSpPr>
          <a:xfrm>
            <a:off x="2231640" y="3166920"/>
            <a:ext cx="290880" cy="152640"/>
            <a:chOff x="2231640" y="3166920"/>
            <a:chExt cx="290880" cy="152640"/>
          </a:xfrm>
        </p:grpSpPr>
        <p:sp>
          <p:nvSpPr>
            <p:cNvPr id="2349" name=""/>
            <p:cNvSpPr/>
            <p:nvPr/>
          </p:nvSpPr>
          <p:spPr>
            <a:xfrm flipV="1" rot="16200000">
              <a:off x="2241000" y="3157560"/>
              <a:ext cx="152640" cy="17136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rot="16200000">
              <a:off x="2415960" y="3182760"/>
              <a:ext cx="100080" cy="1126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2378880" y="32162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2254320" y="2995560"/>
            <a:ext cx="290520" cy="220680"/>
            <a:chOff x="2254320" y="2995560"/>
            <a:chExt cx="290520" cy="220680"/>
          </a:xfrm>
        </p:grpSpPr>
        <p:sp>
          <p:nvSpPr>
            <p:cNvPr id="2353" name=""/>
            <p:cNvSpPr/>
            <p:nvPr/>
          </p:nvSpPr>
          <p:spPr>
            <a:xfrm flipV="1">
              <a:off x="2403360" y="3084480"/>
              <a:ext cx="0" cy="13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4" name=""/>
            <p:cNvGrpSpPr/>
            <p:nvPr/>
          </p:nvGrpSpPr>
          <p:grpSpPr>
            <a:xfrm>
              <a:off x="2254320" y="2995560"/>
              <a:ext cx="290520" cy="88920"/>
              <a:chOff x="2254320" y="2995560"/>
              <a:chExt cx="290520" cy="88920"/>
            </a:xfrm>
          </p:grpSpPr>
          <p:sp>
            <p:nvSpPr>
              <p:cNvPr id="2355" name=""/>
              <p:cNvSpPr/>
              <p:nvPr/>
            </p:nvSpPr>
            <p:spPr>
              <a:xfrm>
                <a:off x="2254320" y="2995560"/>
                <a:ext cx="2905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254320" y="304020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7" name=""/>
          <p:cNvGrpSpPr/>
          <p:nvPr/>
        </p:nvGrpSpPr>
        <p:grpSpPr>
          <a:xfrm>
            <a:off x="2176560" y="2935080"/>
            <a:ext cx="407880" cy="309600"/>
            <a:chOff x="2176560" y="2935080"/>
            <a:chExt cx="407880" cy="309600"/>
          </a:xfrm>
        </p:grpSpPr>
        <p:sp>
          <p:nvSpPr>
            <p:cNvPr id="2358" name=""/>
            <p:cNvSpPr/>
            <p:nvPr/>
          </p:nvSpPr>
          <p:spPr>
            <a:xfrm>
              <a:off x="2509920" y="3071880"/>
              <a:ext cx="0" cy="3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295360" y="2935440"/>
              <a:ext cx="0" cy="64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2176560" y="2935080"/>
              <a:ext cx="0" cy="299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176560" y="2935440"/>
              <a:ext cx="118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509920" y="3102120"/>
              <a:ext cx="74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584440" y="3102120"/>
              <a:ext cx="0" cy="14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4" name=""/>
          <p:cNvSpPr/>
          <p:nvPr/>
        </p:nvSpPr>
        <p:spPr>
          <a:xfrm>
            <a:off x="1290600" y="4317840"/>
            <a:ext cx="645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e est commandée par une membr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270080" y="4775040"/>
            <a:ext cx="64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est raccordée au réseau par deux prises de 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6" name="logo DI D BTP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958-09BF-4579-8545-98616C83D5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8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2369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2370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2447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2451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2455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8" name=""/>
          <p:cNvSpPr/>
          <p:nvPr/>
        </p:nvSpPr>
        <p:spPr>
          <a:xfrm>
            <a:off x="1917720" y="1239840"/>
            <a:ext cx="67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te, soupape différentielle en recyclage sur le circul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1638360" y="2431440"/>
            <a:ext cx="528480" cy="291960"/>
            <a:chOff x="1638360" y="2431440"/>
            <a:chExt cx="528480" cy="291960"/>
          </a:xfrm>
        </p:grpSpPr>
        <p:sp>
          <p:nvSpPr>
            <p:cNvPr id="2460" name=""/>
            <p:cNvSpPr/>
            <p:nvPr/>
          </p:nvSpPr>
          <p:spPr>
            <a:xfrm>
              <a:off x="1638360" y="2441520"/>
              <a:ext cx="52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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2130480" y="243144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2290680" y="2214000"/>
            <a:ext cx="496800" cy="694440"/>
            <a:chOff x="2290680" y="2214000"/>
            <a:chExt cx="496800" cy="694440"/>
          </a:xfrm>
        </p:grpSpPr>
        <p:sp>
          <p:nvSpPr>
            <p:cNvPr id="2463" name=""/>
            <p:cNvSpPr/>
            <p:nvPr/>
          </p:nvSpPr>
          <p:spPr>
            <a:xfrm>
              <a:off x="2370240" y="2214000"/>
              <a:ext cx="0" cy="26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 flipV="1">
              <a:off x="2368080" y="2714760"/>
              <a:ext cx="1800" cy="19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5" name=""/>
            <p:cNvGrpSpPr/>
            <p:nvPr/>
          </p:nvGrpSpPr>
          <p:grpSpPr>
            <a:xfrm>
              <a:off x="2290680" y="2436480"/>
              <a:ext cx="152640" cy="290880"/>
              <a:chOff x="2290680" y="2436480"/>
              <a:chExt cx="152640" cy="290880"/>
            </a:xfrm>
          </p:grpSpPr>
          <p:sp>
            <p:nvSpPr>
              <p:cNvPr id="2466" name=""/>
              <p:cNvSpPr/>
              <p:nvPr/>
            </p:nvSpPr>
            <p:spPr>
              <a:xfrm flipV="1">
                <a:off x="2290680" y="2436480"/>
                <a:ext cx="152640" cy="171360"/>
              </a:xfrm>
              <a:prstGeom prst="flowChartExtra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320920" y="2614680"/>
                <a:ext cx="100080" cy="112680"/>
              </a:xfrm>
              <a:prstGeom prst="flowChartExtra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rot="5400000">
                <a:off x="2342880" y="258408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2370240" y="2889360"/>
              <a:ext cx="417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507960" y="4317840"/>
            <a:ext cx="8410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réglage s’effectue de la même façon que précédem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nvénients lorsque la soupape est complètement en recyclag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la pompe n’est plus refroid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e réseau d’alimentation n’est plus irrigu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1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472" name=""/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, var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279-033E-47D3-A652-49E8A229E6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4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sp>
        <p:nvSpPr>
          <p:cNvPr id="2475" name="">
            <a:hlinkClick r:id="rId2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ensionnement de la 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47640" y="1333440"/>
            <a:ext cx="751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828720" y="2293920"/>
            <a:ext cx="7629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aque fabricant met à disposition des tableaux de sél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choix ou la détermination  du type et du diamètre de la soupape à mettre en place s’effectuent à l’aide de tableaux ou d’abaques  en fonction du débit et de la perte de charge du réseau à protég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es éléments sont les mêmes que pour déterminer le circul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8" name="logo DI D BTP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2A3-3BBB-445F-AFBD-682D7AE25C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57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134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138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142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113360" y="2071800"/>
            <a:ext cx="3878280" cy="1117440"/>
            <a:chOff x="4113360" y="2071800"/>
            <a:chExt cx="3878280" cy="1117440"/>
          </a:xfrm>
        </p:grpSpPr>
        <p:sp>
          <p:nvSpPr>
            <p:cNvPr id="146" name=""/>
            <p:cNvSpPr/>
            <p:nvPr/>
          </p:nvSpPr>
          <p:spPr>
            <a:xfrm>
              <a:off x="4113360" y="2071800"/>
              <a:ext cx="444240" cy="1117440"/>
            </a:xfrm>
            <a:prstGeom prst="upArrow">
              <a:avLst>
                <a:gd name="adj1" fmla="val 50000"/>
                <a:gd name="adj2" fmla="val 62885"/>
              </a:avLst>
            </a:prstGeom>
            <a:gradFill rotWithShape="0">
              <a:gsLst>
                <a:gs pos="0">
                  <a:srgbClr val="feada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65760" y="2448000"/>
              <a:ext cx="444600" cy="741240"/>
            </a:xfrm>
            <a:prstGeom prst="upArrow">
              <a:avLst>
                <a:gd name="adj1" fmla="val 50000"/>
                <a:gd name="adj2" fmla="val 41680"/>
              </a:avLst>
            </a:prstGeom>
            <a:gradFill rotWithShape="0">
              <a:gsLst>
                <a:gs pos="0">
                  <a:srgbClr val="feada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7040" y="2262240"/>
              <a:ext cx="444600" cy="927000"/>
            </a:xfrm>
            <a:prstGeom prst="upArrow">
              <a:avLst>
                <a:gd name="adj1" fmla="val 50000"/>
                <a:gd name="adj2" fmla="val 52126"/>
              </a:avLst>
            </a:prstGeom>
            <a:gradFill rotWithShape="0">
              <a:gsLst>
                <a:gs pos="0">
                  <a:srgbClr val="feada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919240" y="2776680"/>
            <a:ext cx="4267440" cy="761400"/>
            <a:chOff x="2919240" y="2776680"/>
            <a:chExt cx="4267440" cy="761400"/>
          </a:xfrm>
        </p:grpSpPr>
        <p:sp>
          <p:nvSpPr>
            <p:cNvPr id="150" name=""/>
            <p:cNvSpPr/>
            <p:nvPr/>
          </p:nvSpPr>
          <p:spPr>
            <a:xfrm>
              <a:off x="2919240" y="2776680"/>
              <a:ext cx="0" cy="63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657600" y="311436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477040" y="3252600"/>
              <a:ext cx="0" cy="28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182000" y="3176280"/>
              <a:ext cx="468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403440" y="12826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installation fonctionne norma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30400" y="4952880"/>
            <a:ext cx="63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us les radiateurs sont correctement irrigu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7440" y="5524560"/>
            <a:ext cx="636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us les radiateurs émettent la puissance nécess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logo DI D BTP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2B3-2B07-432E-B6CB-E82583078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162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239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243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247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765760" y="2152800"/>
            <a:ext cx="2225880" cy="1036440"/>
            <a:chOff x="5765760" y="2152800"/>
            <a:chExt cx="2225880" cy="1036440"/>
          </a:xfrm>
        </p:grpSpPr>
        <p:sp>
          <p:nvSpPr>
            <p:cNvPr id="251" name=""/>
            <p:cNvSpPr/>
            <p:nvPr/>
          </p:nvSpPr>
          <p:spPr>
            <a:xfrm>
              <a:off x="5765760" y="2309760"/>
              <a:ext cx="444600" cy="879480"/>
            </a:xfrm>
            <a:prstGeom prst="upArrow">
              <a:avLst>
                <a:gd name="adj1" fmla="val 50000"/>
                <a:gd name="adj2" fmla="val 49453"/>
              </a:avLst>
            </a:prstGeom>
            <a:gradFill rotWithShape="0">
              <a:gsLst>
                <a:gs pos="0">
                  <a:srgbClr val="feada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47040" y="2152800"/>
              <a:ext cx="444600" cy="1036440"/>
            </a:xfrm>
            <a:prstGeom prst="upArrow">
              <a:avLst>
                <a:gd name="adj1" fmla="val 50000"/>
                <a:gd name="adj2" fmla="val 58279"/>
              </a:avLst>
            </a:prstGeom>
            <a:gradFill rotWithShape="0">
              <a:gsLst>
                <a:gs pos="0">
                  <a:srgbClr val="feada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919240" y="2776680"/>
            <a:ext cx="4262760" cy="761400"/>
            <a:chOff x="2919240" y="2776680"/>
            <a:chExt cx="4262760" cy="761400"/>
          </a:xfrm>
        </p:grpSpPr>
        <p:sp>
          <p:nvSpPr>
            <p:cNvPr id="254" name=""/>
            <p:cNvSpPr/>
            <p:nvPr/>
          </p:nvSpPr>
          <p:spPr>
            <a:xfrm>
              <a:off x="2919240" y="277668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77040" y="3161880"/>
              <a:ext cx="0" cy="37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182000" y="309996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514680" y="2739960"/>
            <a:ext cx="328680" cy="316080"/>
            <a:chOff x="3514680" y="2739960"/>
            <a:chExt cx="328680" cy="316080"/>
          </a:xfrm>
        </p:grpSpPr>
        <p:sp>
          <p:nvSpPr>
            <p:cNvPr id="258" name=""/>
            <p:cNvSpPr/>
            <p:nvPr/>
          </p:nvSpPr>
          <p:spPr>
            <a:xfrm flipH="1">
              <a:off x="3525840" y="2739960"/>
              <a:ext cx="317520" cy="31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14680" y="2741760"/>
              <a:ext cx="303120" cy="31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403440" y="128268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des robinets thermostatiques se fe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30400" y="4952880"/>
            <a:ext cx="63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débit augmente dans les autres radiate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17440" y="5524560"/>
            <a:ext cx="636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uissance de ces radiateurs augmente aus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rId6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AA4-E060-4EE1-AE61-9EA345EC7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268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345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349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353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47040" y="1781280"/>
            <a:ext cx="444600" cy="1407960"/>
          </a:xfrm>
          <a:prstGeom prst="upArrow">
            <a:avLst>
              <a:gd name="adj1" fmla="val 50000"/>
              <a:gd name="adj2" fmla="val 79170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19240" y="2776680"/>
            <a:ext cx="0" cy="566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182000" y="2990520"/>
            <a:ext cx="0" cy="5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525840" y="2739960"/>
            <a:ext cx="317520" cy="31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14680" y="2741760"/>
            <a:ext cx="30312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340240" y="2759040"/>
            <a:ext cx="317520" cy="316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29080" y="2760840"/>
            <a:ext cx="30348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03440" y="1282680"/>
            <a:ext cx="55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x des robinets thermostatiques se fer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30400" y="4952880"/>
            <a:ext cx="63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débit augmente dans le dernier radi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17440" y="5524560"/>
            <a:ext cx="636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uissance de ce radiateur augmente aus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rId6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B1A-7D19-42A0-A5AD-CB760CD001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371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628800" y="2865600"/>
            <a:ext cx="143280" cy="88560"/>
            <a:chOff x="3628800" y="2865600"/>
            <a:chExt cx="143280" cy="88560"/>
          </a:xfrm>
        </p:grpSpPr>
        <p:sp>
          <p:nvSpPr>
            <p:cNvPr id="448" name=""/>
            <p:cNvSpPr/>
            <p:nvPr/>
          </p:nvSpPr>
          <p:spPr>
            <a:xfrm flipV="1">
              <a:off x="3714840" y="2910960"/>
              <a:ext cx="572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rot="5400000">
              <a:off x="3625920" y="2867760"/>
              <a:ext cx="8856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70200" y="2865600"/>
              <a:ext cx="42840" cy="88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452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456160" y="2862000"/>
            <a:ext cx="142920" cy="89280"/>
            <a:chOff x="5456160" y="2862000"/>
            <a:chExt cx="142920" cy="89280"/>
          </a:xfrm>
        </p:grpSpPr>
        <p:sp>
          <p:nvSpPr>
            <p:cNvPr id="456" name=""/>
            <p:cNvSpPr/>
            <p:nvPr/>
          </p:nvSpPr>
          <p:spPr>
            <a:xfrm flipV="1">
              <a:off x="5541840" y="29077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rot="5400000">
              <a:off x="5453640" y="28641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97560" y="2862360"/>
              <a:ext cx="42840" cy="88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514680" y="2739960"/>
            <a:ext cx="3838680" cy="335160"/>
            <a:chOff x="3514680" y="2739960"/>
            <a:chExt cx="3838680" cy="335160"/>
          </a:xfrm>
        </p:grpSpPr>
        <p:sp>
          <p:nvSpPr>
            <p:cNvPr id="460" name=""/>
            <p:cNvSpPr/>
            <p:nvPr/>
          </p:nvSpPr>
          <p:spPr>
            <a:xfrm flipH="1">
              <a:off x="3525840" y="2739960"/>
              <a:ext cx="317520" cy="31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14680" y="2741760"/>
              <a:ext cx="303120" cy="31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340240" y="2759040"/>
              <a:ext cx="317520" cy="31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29080" y="2760840"/>
              <a:ext cx="303480" cy="31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035840" y="2754360"/>
              <a:ext cx="317520" cy="315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24680" y="2755800"/>
              <a:ext cx="303120" cy="311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403440" y="1282680"/>
            <a:ext cx="55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us les robinets thermostatiques se fer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30400" y="4762440"/>
            <a:ext cx="69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n’y a plus de débit dans les radiate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17440" y="5524560"/>
            <a:ext cx="636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ompe est en danger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625840" y="2917800"/>
            <a:ext cx="327960" cy="316080"/>
            <a:chOff x="2625840" y="2917800"/>
            <a:chExt cx="327960" cy="316080"/>
          </a:xfrm>
        </p:grpSpPr>
        <p:sp>
          <p:nvSpPr>
            <p:cNvPr id="470" name=""/>
            <p:cNvSpPr/>
            <p:nvPr/>
          </p:nvSpPr>
          <p:spPr>
            <a:xfrm flipH="1">
              <a:off x="2636640" y="2917800"/>
              <a:ext cx="317160" cy="31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25840" y="2919240"/>
              <a:ext cx="303120" cy="311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2" name="logo DI D BTP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rId6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2BB-6AE4-411D-AAB3-340D959604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71680" y="1727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 faire pour protéger la pompe d’un débit nul ou trop peti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23960" y="2641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ois solutions sont possib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960" y="3581280"/>
            <a:ext cx="8323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staller un bipasse permanent après le circul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e pas équiper un des radiateurs d’un robinet thermostatique mais d’un robinet man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quiper l’installation d’une soupape différentie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logo DI D BTP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480" name="">
            <a:hlinkClick r:id="rId3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4E2-05A2-4401-88DA-7A7597259C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484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628800" y="2890440"/>
            <a:ext cx="143280" cy="89280"/>
            <a:chOff x="3628800" y="2890440"/>
            <a:chExt cx="143280" cy="89280"/>
          </a:xfrm>
        </p:grpSpPr>
        <p:sp>
          <p:nvSpPr>
            <p:cNvPr id="561" name=""/>
            <p:cNvSpPr/>
            <p:nvPr/>
          </p:nvSpPr>
          <p:spPr>
            <a:xfrm flipV="1">
              <a:off x="3714840" y="29368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rot="5400000">
              <a:off x="3625920" y="2892960"/>
              <a:ext cx="8892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70200" y="2890800"/>
              <a:ext cx="42840" cy="88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456160" y="2887200"/>
            <a:ext cx="142920" cy="89280"/>
            <a:chOff x="5456160" y="2887200"/>
            <a:chExt cx="142920" cy="89280"/>
          </a:xfrm>
        </p:grpSpPr>
        <p:sp>
          <p:nvSpPr>
            <p:cNvPr id="565" name=""/>
            <p:cNvSpPr/>
            <p:nvPr/>
          </p:nvSpPr>
          <p:spPr>
            <a:xfrm flipV="1">
              <a:off x="5541840" y="29329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rot="5400000">
              <a:off x="5453640" y="28893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97560" y="288756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3403440" y="739800"/>
            <a:ext cx="5524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staller un bipasse permanent après le circul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7640" y="4707000"/>
            <a:ext cx="7540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convénient, le circulateur doit être surdimensi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retours primaires seront réchauffés, ceci est bon pour une chaudière classique mais néfaste pour les appareils à condens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917720" y="3174840"/>
            <a:ext cx="869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logo DI D BTP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7153200" y="2871360"/>
            <a:ext cx="142920" cy="89280"/>
            <a:chOff x="7153200" y="2871360"/>
            <a:chExt cx="142920" cy="89280"/>
          </a:xfrm>
        </p:grpSpPr>
        <p:sp>
          <p:nvSpPr>
            <p:cNvPr id="573" name=""/>
            <p:cNvSpPr/>
            <p:nvPr/>
          </p:nvSpPr>
          <p:spPr>
            <a:xfrm flipV="1">
              <a:off x="7238880" y="291780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rot="5400000">
              <a:off x="7150680" y="287352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94600" y="2871720"/>
              <a:ext cx="42840" cy="88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>
            <a:hlinkClick r:id="rId6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637-55DE-43BF-B504-97E8C2B2B0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afpa355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58200" y="52560"/>
            <a:ext cx="588960" cy="545760"/>
          </a:xfrm>
          <a:prstGeom prst="rect">
            <a:avLst/>
          </a:prstGeom>
          <a:ln w="0">
            <a:noFill/>
          </a:ln>
        </p:spPr>
      </p:pic>
      <p:grpSp>
        <p:nvGrpSpPr>
          <p:cNvPr id="579" name=""/>
          <p:cNvGrpSpPr/>
          <p:nvPr/>
        </p:nvGrpSpPr>
        <p:grpSpPr>
          <a:xfrm>
            <a:off x="718920" y="1260360"/>
            <a:ext cx="7685280" cy="2598480"/>
            <a:chOff x="718920" y="1260360"/>
            <a:chExt cx="7685280" cy="2598480"/>
          </a:xfrm>
        </p:grpSpPr>
        <p:sp>
          <p:nvSpPr>
            <p:cNvPr id="580" name=""/>
            <p:cNvSpPr/>
            <p:nvPr/>
          </p:nvSpPr>
          <p:spPr>
            <a:xfrm flipV="1">
              <a:off x="2787480" y="2196720"/>
              <a:ext cx="5040" cy="15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62440" y="2869920"/>
              <a:ext cx="94464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466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2272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940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65800" y="2935080"/>
              <a:ext cx="88560" cy="44280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650">
                  <a:moveTo>
                    <a:pt x="3600" y="0"/>
                  </a:moveTo>
                  <a:arcTo wR="3600" hR="3600" stAng="16200000" swAng="-5400000"/>
                  <a:lnTo>
                    <a:pt x="0" y="104050"/>
                  </a:lnTo>
                  <a:arcTo wR="3600" hR="3600" stAng="10800000" swAng="-5400000"/>
                  <a:lnTo>
                    <a:pt x="18000" y="1076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765600" y="3682800"/>
              <a:ext cx="18954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726720" y="286524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2284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80000" y="2954160"/>
              <a:ext cx="0" cy="73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8484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rot="5400000">
              <a:off x="484128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480852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0860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32360" y="3497040"/>
              <a:ext cx="0" cy="328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0384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5128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686560" y="2869920"/>
              <a:ext cx="615960" cy="58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704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4684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1820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84880" y="3687480"/>
              <a:ext cx="1976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51560" y="2865240"/>
              <a:ext cx="9504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43720" y="291600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603760" y="2954160"/>
              <a:ext cx="0" cy="73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80280" y="34113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rot="5400000">
              <a:off x="6336720" y="336816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303960" y="341136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4040" y="339552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27800" y="3497040"/>
              <a:ext cx="0" cy="32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99280" y="291132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75400" y="3377880"/>
              <a:ext cx="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1800" y="2879640"/>
              <a:ext cx="773280" cy="58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6604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4208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1380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985160" y="2944440"/>
              <a:ext cx="88920" cy="44316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3160"/>
                <a:gd name="textAreaBottom" fmla="*/ 438840 h 443160"/>
              </a:gdLst>
              <a:ahLst/>
              <a:rect l="textAreaLeft" t="textAreaTop" r="textAreaRight" b="textAreaBottom"/>
              <a:pathLst>
                <a:path w="21600" h="107303">
                  <a:moveTo>
                    <a:pt x="3600" y="0"/>
                  </a:moveTo>
                  <a:arcTo wR="3600" hR="3600" stAng="16200000" swAng="-5400000"/>
                  <a:lnTo>
                    <a:pt x="0" y="103703"/>
                  </a:lnTo>
                  <a:arcTo wR="3600" hR="3600" stAng="10800000" swAng="-5400000"/>
                  <a:lnTo>
                    <a:pt x="18000" y="1073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7246080" y="2874600"/>
              <a:ext cx="95400" cy="8892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38960" y="2925720"/>
              <a:ext cx="4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99360" y="2963520"/>
              <a:ext cx="0" cy="73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232840" y="34207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rot="5400000">
              <a:off x="8189280" y="3377520"/>
              <a:ext cx="88920" cy="88920"/>
            </a:xfrm>
            <a:prstGeom prst="flowChartExtra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8156520" y="3420720"/>
              <a:ext cx="3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56600" y="3404880"/>
              <a:ext cx="5076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280360" y="3506760"/>
              <a:ext cx="0" cy="328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51840" y="2920680"/>
              <a:ext cx="4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70640" y="3387600"/>
              <a:ext cx="0" cy="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332320" y="3830400"/>
              <a:ext cx="3043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32480" y="2935080"/>
              <a:ext cx="88920" cy="4428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442800"/>
                <a:gd name="textAreaBottom" fmla="*/ 438480 h 442800"/>
              </a:gdLst>
              <a:ahLst/>
              <a:rect l="textAreaLeft" t="textAreaTop" r="textAreaRight" b="textAreaBottom"/>
              <a:pathLst>
                <a:path w="21600" h="107216">
                  <a:moveTo>
                    <a:pt x="3600" y="0"/>
                  </a:moveTo>
                  <a:arcTo wR="3600" hR="3600" stAng="16200000" swAng="-5400000"/>
                  <a:lnTo>
                    <a:pt x="0" y="103616"/>
                  </a:lnTo>
                  <a:arcTo wR="3600" hR="3600" stAng="10800000" swAng="-5400000"/>
                  <a:lnTo>
                    <a:pt x="18000" y="1072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46760" y="3830400"/>
              <a:ext cx="15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57400" y="136512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57400" y="3174840"/>
              <a:ext cx="284040" cy="152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1581840" y="2129400"/>
              <a:ext cx="15696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662120" y="208692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66800" y="2087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7920" y="2215800"/>
              <a:ext cx="128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6200000">
              <a:off x="1581840" y="2905560"/>
              <a:ext cx="157320" cy="16164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1662120" y="286380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66800" y="28638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2992320"/>
              <a:ext cx="128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43120" y="2987640"/>
              <a:ext cx="19692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1928880" y="2970000"/>
              <a:ext cx="1440" cy="888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43120" y="2215800"/>
              <a:ext cx="1069920" cy="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87760" y="2468520"/>
              <a:ext cx="20952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697120" y="2525400"/>
              <a:ext cx="19044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809800" y="3682440"/>
              <a:ext cx="1069920" cy="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1917360" y="3830400"/>
              <a:ext cx="3095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7358040" y="364896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8339040" y="3791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62160" y="3377880"/>
              <a:ext cx="65160" cy="6516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295280" y="333000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76200" y="1260360"/>
              <a:ext cx="60480" cy="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305000" y="1325160"/>
              <a:ext cx="0" cy="4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18920" y="2587320"/>
              <a:ext cx="438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18920" y="1763640"/>
              <a:ext cx="438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158840" y="1438200"/>
              <a:ext cx="289080" cy="1817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7547040" y="1781280"/>
            <a:ext cx="444600" cy="1407960"/>
          </a:xfrm>
          <a:prstGeom prst="upArrow">
            <a:avLst>
              <a:gd name="adj1" fmla="val 50000"/>
              <a:gd name="adj2" fmla="val 79170"/>
            </a:avLst>
          </a:prstGeom>
          <a:gradFill rotWithShape="0">
            <a:gsLst>
              <a:gs pos="0">
                <a:srgbClr val="feada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919240" y="2776680"/>
            <a:ext cx="4262760" cy="761400"/>
            <a:chOff x="2919240" y="2776680"/>
            <a:chExt cx="4262760" cy="761400"/>
          </a:xfrm>
        </p:grpSpPr>
        <p:sp>
          <p:nvSpPr>
            <p:cNvPr id="658" name=""/>
            <p:cNvSpPr/>
            <p:nvPr/>
          </p:nvSpPr>
          <p:spPr>
            <a:xfrm>
              <a:off x="2919240" y="277668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182000" y="2990520"/>
              <a:ext cx="0" cy="5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628800" y="2890440"/>
            <a:ext cx="143280" cy="89280"/>
            <a:chOff x="3628800" y="2890440"/>
            <a:chExt cx="143280" cy="89280"/>
          </a:xfrm>
        </p:grpSpPr>
        <p:sp>
          <p:nvSpPr>
            <p:cNvPr id="661" name=""/>
            <p:cNvSpPr/>
            <p:nvPr/>
          </p:nvSpPr>
          <p:spPr>
            <a:xfrm flipV="1">
              <a:off x="3714840" y="2936880"/>
              <a:ext cx="5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rot="5400000">
              <a:off x="3625920" y="2892960"/>
              <a:ext cx="88920" cy="838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670200" y="2890800"/>
              <a:ext cx="42840" cy="88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456160" y="2887200"/>
            <a:ext cx="142920" cy="89280"/>
            <a:chOff x="5456160" y="2887200"/>
            <a:chExt cx="142920" cy="89280"/>
          </a:xfrm>
        </p:grpSpPr>
        <p:sp>
          <p:nvSpPr>
            <p:cNvPr id="665" name=""/>
            <p:cNvSpPr/>
            <p:nvPr/>
          </p:nvSpPr>
          <p:spPr>
            <a:xfrm flipV="1">
              <a:off x="5541840" y="2932920"/>
              <a:ext cx="57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rot="5400000">
              <a:off x="5453640" y="2889360"/>
              <a:ext cx="88920" cy="8424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497560" y="2887560"/>
              <a:ext cx="42840" cy="88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514680" y="2765520"/>
            <a:ext cx="2143080" cy="334800"/>
            <a:chOff x="3514680" y="2765520"/>
            <a:chExt cx="2143080" cy="334800"/>
          </a:xfrm>
        </p:grpSpPr>
        <p:sp>
          <p:nvSpPr>
            <p:cNvPr id="669" name=""/>
            <p:cNvSpPr/>
            <p:nvPr/>
          </p:nvSpPr>
          <p:spPr>
            <a:xfrm flipH="1">
              <a:off x="3525840" y="2765520"/>
              <a:ext cx="317520" cy="315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14680" y="2766960"/>
              <a:ext cx="303120" cy="31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5340240" y="2784600"/>
              <a:ext cx="317520" cy="315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29080" y="2786040"/>
              <a:ext cx="303480" cy="31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403440" y="739800"/>
            <a:ext cx="5524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 des radiateurs est équipé d’un robinet man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41480" y="4280040"/>
            <a:ext cx="74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nvénient, la pièce où est installé le radiateur sera surchauffée lorsque les autres radiateurs commenceront à se ferm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015920" y="5029200"/>
            <a:ext cx="7518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ci conduira à un inconfort et à une dépense inutile d’énerg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utilisateur aura naturellement tendance à fermer le robinet man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ompe n’est donc pas complètement protégée d’un manque de circ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logo DI D BTP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108000" y="104760"/>
            <a:ext cx="585720" cy="40500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rId5" action="ppaction://hlinksldjump"/>
          </p:cNvPr>
          <p:cNvSpPr/>
          <p:nvPr/>
        </p:nvSpPr>
        <p:spPr>
          <a:xfrm>
            <a:off x="961920" y="104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pape différent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665-882B-4E38-AE99-C6D6BC42B7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06:07:22Z</dcterms:created>
  <dc:creator>Ringot</dc:creator>
  <dc:description/>
  <dc:language>en-US</dc:language>
  <cp:lastModifiedBy>Ringot</cp:lastModifiedBy>
  <dcterms:modified xsi:type="dcterms:W3CDTF">2006-01-24T15:05:48Z</dcterms:modified>
  <cp:revision>437</cp:revision>
  <dc:subject/>
  <dc:title>Présentation PowerPoint</dc:title>
</cp:coreProperties>
</file>